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49D-D2E4-4E5C-A91C-A575DA625A3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E39-3D22-4CD2-9968-53C32FD2204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1520" y="9377280"/>
            <a:ext cx="294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0303B36-63F3-4007-A497-FE9158AD427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D39F-B93A-4674-8264-BCB23159291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1DC-BAC1-4761-956D-5640E9BA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83D-809F-4E7E-B151-2140835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7FC-4644-49CD-861A-92E827F9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B53-814B-4E21-A4E8-6AB1D498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4F3-72E7-43D0-BB4A-6825EB36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FFA-3A16-40BB-87E2-DB57FA1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48A5-1103-470A-818D-A53CD7C5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5DA-9D9D-4631-934A-4F24DAFF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4488-39D2-43AF-9A4F-8F4C665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448-A1A0-49D0-A972-8FEA23A5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FA9-E782-44C8-B9CA-041944C6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6E5-6E27-4202-BFE6-F00D066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FE64-6580-4C5A-A9CA-B35B32F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B7B7-D5B5-4546-BC50-30F75FA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9428-8BB6-48AA-8E3B-51BB86D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CE72-B24B-4956-8025-4C5741B8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CBDE-B45C-42A0-9AAC-AF66B4BC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05E3-56FC-4631-BBCE-FA576AB4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BDF1-E5FC-4B56-AA62-C2E743F9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7608-68F5-47E8-A049-5D8C2BE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CC0A-BBB1-4E1B-ADB2-D832BDDC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5ACD-7A6F-4B48-BACC-DC7F908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17E-A3CA-416A-AF9E-3B8CA227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B213-0B34-496C-9394-FEA8C023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93B4-712A-483B-B41A-283515D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9DED-612F-4AC9-B32B-817DD45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C05D-ACD4-4922-9A95-5760BFB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B0A6-B80B-456F-80FB-3FD4B226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0F15-D30B-4BBB-AEDD-18B6094F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D0A4-149F-4E98-90A1-C937A23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644D-B4F5-4191-AF5C-E3696AEC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639B-1F07-4C2C-9404-7EA5BF04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17DF-F85E-41A6-AB9C-7743A87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89A-51B0-42AD-B255-8061B8F9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5220-52C6-4EE1-9BB5-DCEA535E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4623-77D5-4B82-B008-62CA0F2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2552-9211-43F9-BE42-A55B75C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CA6D-CD6D-400C-BE6C-D8B0028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6274-1D3E-4CB8-8C96-5DBE584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BC39-F32A-4434-93E0-4599591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2943-0B1B-448D-AA81-2C3BBAC1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20D3-276F-4FF1-B562-537234CF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C6CA-7FE3-43E5-A9B4-650D1A26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70D-16B3-4605-80B2-110C53D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A5C-B3B6-4272-B763-C23221E4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36B-AC1B-428E-ACE1-BAE03F0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45E-99FE-4E1D-BDE2-4B06955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EF0-3490-4D51-B0D9-DEDD5060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056-A618-48A1-B0F6-B4DEE33E98B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72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380880" y="1417680"/>
            <a:ext cx="8305920" cy="182520"/>
            <a:chOff x="380880" y="1417680"/>
            <a:chExt cx="8305920" cy="182520"/>
          </a:xfrm>
        </p:grpSpPr>
        <p:sp>
          <p:nvSpPr>
            <p:cNvPr id="47" name="Rectangle 4"/>
            <p:cNvSpPr/>
            <p:nvPr/>
          </p:nvSpPr>
          <p:spPr>
            <a:xfrm>
              <a:off x="6858000" y="1417680"/>
              <a:ext cx="1828800" cy="182520"/>
            </a:xfrm>
            <a:prstGeom prst="rect">
              <a:avLst/>
            </a:prstGeom>
            <a:solidFill>
              <a:srgbClr val="526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380880" y="1494000"/>
              <a:ext cx="8305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DD7E-684F-47EF-8061-CD5D38A4CC3B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526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3DF-245E-43F0-B52C-081678D5E69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9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138" name="Rectangle 13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08A5-096A-4D72-8BA2-C2E741168271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280" y="1412640"/>
            <a:ext cx="738036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0000"/>
                </a:solidFill>
                <a:latin typeface="Verdana"/>
              </a:rPr>
              <a:t>„</a:t>
            </a:r>
            <a:r>
              <a:rPr b="1" lang="de-DE" sz="3200" spc="-1" strike="noStrike">
                <a:solidFill>
                  <a:srgbClr val="cc0000"/>
                </a:solidFill>
                <a:latin typeface="Verdana"/>
              </a:rPr>
              <a:t>Flexicurity“ – theory and experience in Denmark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iability of progressive policies in Europe and Baltic States, Riga, 11.03.2011 </a:t>
            </a:r>
            <a:r>
              <a:rPr b="1" lang="de-DE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124000" y="4723920"/>
            <a:ext cx="6624720" cy="15843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ahoma"/>
              </a:rPr>
              <a:t>Henning Jørgen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Professor, Aalborg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Former Director ETU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nningj@epa.aau.d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39F-6DF5-4A2A-97DF-FC05593D0E4D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640" y="-100440"/>
            <a:ext cx="3456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”</a:t>
            </a: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Flexicurity”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111480" y="662040"/>
            <a:ext cx="506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331960" y="14698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Georgia"/>
              </a:rPr>
              <a:t>Job pro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240" y="3573360"/>
            <a:ext cx="20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Georgia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Georgi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2519280" y="2492280"/>
            <a:ext cx="6624720" cy="3816360"/>
          </a:xfrm>
          <a:prstGeom prst="rect">
            <a:avLst/>
          </a:prstGeom>
          <a:solidFill>
            <a:srgbClr val="008080"/>
          </a:solidFill>
          <a:ln w="12600">
            <a:solidFill>
              <a:srgbClr val="b1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6732720" y="2565360"/>
            <a:ext cx="0" cy="3743280"/>
          </a:xfrm>
          <a:prstGeom prst="line">
            <a:avLst/>
          </a:prstGeom>
          <a:ln w="12600">
            <a:solidFill>
              <a:srgbClr val="b1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500720" y="2492280"/>
            <a:ext cx="1440" cy="3816360"/>
          </a:xfrm>
          <a:prstGeom prst="line">
            <a:avLst/>
          </a:prstGeom>
          <a:ln w="12600">
            <a:solidFill>
              <a:srgbClr val="b1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2517840" y="4724280"/>
            <a:ext cx="6626160" cy="0"/>
          </a:xfrm>
          <a:prstGeom prst="line">
            <a:avLst/>
          </a:prstGeom>
          <a:ln w="12600">
            <a:solidFill>
              <a:srgbClr val="b1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5022000" y="24303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Georgia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7305120" y="2430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Georgia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608200" y="377352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Georgia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2625120" y="5094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Georgia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722120" y="3500280"/>
            <a:ext cx="8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b1ffff"/>
                </a:solidFill>
                <a:latin typeface="Georgia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b1ffff"/>
                </a:solidFill>
                <a:latin typeface="Georgia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7153560" y="378288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b1ffff"/>
                </a:solidFill>
                <a:latin typeface="Georgia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6804000" y="5157720"/>
            <a:ext cx="163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b1ffff"/>
                </a:solidFill>
                <a:latin typeface="Georgia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4571280" y="515160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b1ffff"/>
                </a:solidFill>
                <a:latin typeface="Georgia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2517840" y="3357720"/>
            <a:ext cx="6626160" cy="0"/>
          </a:xfrm>
          <a:prstGeom prst="line">
            <a:avLst/>
          </a:prstGeom>
          <a:ln w="12600">
            <a:solidFill>
              <a:srgbClr val="b1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073-42DB-4EBB-A461-70AC61FEA671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-100080"/>
            <a:ext cx="856944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The Danish flexicurity system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3743280" y="2060640"/>
            <a:ext cx="1590840" cy="1562040"/>
          </a:xfrm>
          <a:prstGeom prst="ellipse">
            <a:avLst/>
          </a:prstGeom>
          <a:solidFill>
            <a:srgbClr val="c6ac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1763640" y="4062240"/>
            <a:ext cx="1590840" cy="15624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6711840" y="4191120"/>
            <a:ext cx="1590840" cy="1562040"/>
          </a:xfrm>
          <a:prstGeom prst="ellipse">
            <a:avLst/>
          </a:prstGeom>
          <a:solidFill>
            <a:srgbClr val="2e71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Oval 6"/>
          <p:cNvSpPr/>
          <p:nvPr/>
        </p:nvSpPr>
        <p:spPr>
          <a:xfrm rot="2700000">
            <a:off x="2526840" y="1224000"/>
            <a:ext cx="2127240" cy="50958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4349880" y="4952880"/>
            <a:ext cx="2104920" cy="247680"/>
          </a:xfrm>
          <a:prstGeom prst="rightArrow">
            <a:avLst>
              <a:gd name="adj1" fmla="val 50000"/>
              <a:gd name="adj2" fmla="val 21246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8"/>
          <p:cNvSpPr/>
          <p:nvPr/>
        </p:nvSpPr>
        <p:spPr>
          <a:xfrm rot="2700000">
            <a:off x="5178240" y="3895560"/>
            <a:ext cx="1523880" cy="285840"/>
          </a:xfrm>
          <a:prstGeom prst="leftArrow">
            <a:avLst>
              <a:gd name="adj1" fmla="val 43120"/>
              <a:gd name="adj2" fmla="val 1175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9"/>
          <p:cNvSpPr/>
          <p:nvPr/>
        </p:nvSpPr>
        <p:spPr>
          <a:xfrm rot="18900000">
            <a:off x="3276360" y="3889080"/>
            <a:ext cx="1042920" cy="380880"/>
          </a:xfrm>
          <a:prstGeom prst="rightArrow">
            <a:avLst>
              <a:gd name="adj1" fmla="val 50000"/>
              <a:gd name="adj2" fmla="val 6845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0"/>
          <p:cNvSpPr/>
          <p:nvPr/>
        </p:nvSpPr>
        <p:spPr>
          <a:xfrm rot="18900000">
            <a:off x="2746080" y="3428640"/>
            <a:ext cx="993600" cy="428760"/>
          </a:xfrm>
          <a:prstGeom prst="leftArrow">
            <a:avLst>
              <a:gd name="adj1" fmla="val 50000"/>
              <a:gd name="adj2" fmla="val 5793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4052880" y="2384280"/>
            <a:ext cx="113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Flexible</a:t>
            </a:r>
            <a:br>
              <a:rPr sz="1600"/>
            </a:br>
            <a:r>
              <a:rPr b="1" lang="da-DK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labour</a:t>
            </a:r>
            <a:br>
              <a:rPr sz="1600"/>
            </a:br>
            <a:r>
              <a:rPr b="1" lang="da-DK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023920" y="4495680"/>
            <a:ext cx="1071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2063880" y="2971800"/>
            <a:ext cx="3142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1008000" y="2209680"/>
            <a:ext cx="2519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7174"/>
                </a:solidFill>
                <a:latin typeface="Georgia"/>
                <a:ea typeface="Times New Roman"/>
              </a:rPr>
              <a:t>The primary axe of the Flexicurity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541440" y="1116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1620720"/>
                <a:tab algn="l" pos="2160720"/>
                <a:tab algn="l" pos="2701800"/>
                <a:tab algn="l" pos="3241800"/>
                <a:tab algn="l" pos="3781440"/>
                <a:tab algn="l" pos="4321080"/>
                <a:tab algn="l" pos="4862520"/>
                <a:tab algn="l" pos="540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eorg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620720"/>
                <a:tab algn="l" pos="2160720"/>
                <a:tab algn="l" pos="2701800"/>
                <a:tab algn="l" pos="3241800"/>
                <a:tab algn="l" pos="3781440"/>
                <a:tab algn="l" pos="4321080"/>
                <a:tab algn="l" pos="4862520"/>
                <a:tab algn="l" pos="540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5645160" y="1589040"/>
            <a:ext cx="3857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e71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 </a:t>
            </a: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Strong rotation between jo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e71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 </a:t>
            </a: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Low job secu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e71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 </a:t>
            </a: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Quick structural adap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920880" y="5867280"/>
            <a:ext cx="3182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e71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 </a:t>
            </a: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Income secu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e71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 </a:t>
            </a: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High percieved job secu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7397640" y="5883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2e7174"/>
                </a:solidFill>
                <a:latin typeface="Georgia"/>
              </a:rPr>
              <a:t>Employment secu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908760" y="4275000"/>
            <a:ext cx="140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Active</a:t>
            </a:r>
            <a:br>
              <a:rPr sz="1600"/>
            </a:b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labour</a:t>
            </a:r>
            <a:br>
              <a:rPr sz="1600"/>
            </a:b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market and</a:t>
            </a:r>
            <a:br>
              <a:rPr sz="1600"/>
            </a:b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educational</a:t>
            </a:r>
            <a:br>
              <a:rPr sz="1600"/>
            </a:br>
            <a:r>
              <a:rPr b="1" lang="da-DK" sz="1600" spc="-1" strike="noStrike">
                <a:solidFill>
                  <a:srgbClr val="ffffff"/>
                </a:solidFill>
                <a:latin typeface="Georgia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3672000" y="4292640"/>
            <a:ext cx="29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cc0000"/>
                </a:solidFill>
                <a:latin typeface="Georgia"/>
              </a:rPr>
              <a:t>The social partn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6535-8096-4FE8-84D5-D2A3FA485FB0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3300"/>
                </a:solidFill>
                <a:latin typeface="Verdana"/>
              </a:rPr>
              <a:t>Some basic figures for Danish flexicurity:</a:t>
            </a:r>
            <a:br>
              <a:rPr sz="2400"/>
            </a:br>
            <a:r>
              <a:rPr b="1" lang="da-DK" sz="2400" spc="-1" strike="noStrike">
                <a:solidFill>
                  <a:srgbClr val="cc0000"/>
                </a:solidFill>
                <a:latin typeface="Verdana"/>
              </a:rPr>
              <a:t>”the security of the wings”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Oval 3"/>
          <p:cNvSpPr/>
          <p:nvPr/>
        </p:nvSpPr>
        <p:spPr>
          <a:xfrm>
            <a:off x="3429000" y="2133720"/>
            <a:ext cx="1362240" cy="137160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1187280" y="4114800"/>
            <a:ext cx="1555920" cy="1447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6172200" y="4038480"/>
            <a:ext cx="1447920" cy="1419480"/>
          </a:xfrm>
          <a:prstGeom prst="ellipse">
            <a:avLst/>
          </a:prstGeom>
          <a:solidFill>
            <a:srgbClr val="3399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3429000" y="4800600"/>
            <a:ext cx="2104920" cy="247680"/>
          </a:xfrm>
          <a:prstGeom prst="rightArrow">
            <a:avLst>
              <a:gd name="adj1" fmla="val 50000"/>
              <a:gd name="adj2" fmla="val 2124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7"/>
          <p:cNvSpPr/>
          <p:nvPr/>
        </p:nvSpPr>
        <p:spPr>
          <a:xfrm rot="2700000">
            <a:off x="4638600" y="3895560"/>
            <a:ext cx="1523880" cy="285840"/>
          </a:xfrm>
          <a:prstGeom prst="leftArrow">
            <a:avLst>
              <a:gd name="adj1" fmla="val 43120"/>
              <a:gd name="adj2" fmla="val 117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8"/>
          <p:cNvSpPr/>
          <p:nvPr/>
        </p:nvSpPr>
        <p:spPr>
          <a:xfrm rot="18900000">
            <a:off x="2743200" y="3809520"/>
            <a:ext cx="1042920" cy="381240"/>
          </a:xfrm>
          <a:prstGeom prst="rightArrow">
            <a:avLst>
              <a:gd name="adj1" fmla="val 50000"/>
              <a:gd name="adj2" fmla="val 683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9"/>
          <p:cNvSpPr/>
          <p:nvPr/>
        </p:nvSpPr>
        <p:spPr>
          <a:xfrm rot="18900000">
            <a:off x="2285640" y="3276720"/>
            <a:ext cx="993600" cy="514080"/>
          </a:xfrm>
          <a:prstGeom prst="leftArrow">
            <a:avLst>
              <a:gd name="adj1" fmla="val 50000"/>
              <a:gd name="adj2" fmla="val 48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657600" y="2514600"/>
            <a:ext cx="91440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labour mark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1547640" y="4572000"/>
            <a:ext cx="966960" cy="54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Times New Roman"/>
              </a:rPr>
              <a:t>Social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300720" y="4419720"/>
            <a:ext cx="1150920" cy="53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1440" y="1116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1620720"/>
                <a:tab algn="l" pos="2160720"/>
                <a:tab algn="l" pos="2701800"/>
                <a:tab algn="l" pos="3241800"/>
                <a:tab algn="l" pos="3781440"/>
                <a:tab algn="l" pos="4321080"/>
                <a:tab algn="l" pos="4862520"/>
                <a:tab algn="l" pos="540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1620720"/>
                <a:tab algn="l" pos="2160720"/>
                <a:tab algn="l" pos="2701800"/>
                <a:tab algn="l" pos="3241800"/>
                <a:tab algn="l" pos="3781440"/>
                <a:tab algn="l" pos="4321080"/>
                <a:tab algn="l" pos="4862520"/>
                <a:tab algn="l" pos="540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4952880" y="19810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0000"/>
                </a:solidFill>
                <a:latin typeface="Times New Roman"/>
              </a:rPr>
              <a:t>30 procent change jobs each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4723920" y="2286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900000" y="22860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0000"/>
                </a:solidFill>
                <a:latin typeface="Times New Roman"/>
              </a:rPr>
              <a:t>20 procent of the workforce experience unemployment each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666880" y="2971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4716360" y="541008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0000"/>
                </a:solidFill>
                <a:latin typeface="Times New Roman"/>
              </a:rPr>
              <a:t>11 procent in ALMP each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9"/>
          <p:cNvSpPr/>
          <p:nvPr/>
        </p:nvSpPr>
        <p:spPr>
          <a:xfrm flipV="1">
            <a:off x="6095880" y="52574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Oval 20"/>
          <p:cNvSpPr/>
          <p:nvPr/>
        </p:nvSpPr>
        <p:spPr>
          <a:xfrm>
            <a:off x="7380360" y="2276640"/>
            <a:ext cx="1447560" cy="141912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7740720" y="2708280"/>
            <a:ext cx="685800" cy="533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2"/>
          <p:cNvSpPr/>
          <p:nvPr/>
        </p:nvSpPr>
        <p:spPr>
          <a:xfrm rot="18027600">
            <a:off x="7216200" y="3737160"/>
            <a:ext cx="615960" cy="287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23"/>
          <p:cNvSpPr/>
          <p:nvPr/>
        </p:nvSpPr>
        <p:spPr>
          <a:xfrm>
            <a:off x="5292720" y="2565360"/>
            <a:ext cx="1871640" cy="247680"/>
          </a:xfrm>
          <a:prstGeom prst="rightArrow">
            <a:avLst>
              <a:gd name="adj1" fmla="val 50000"/>
              <a:gd name="adj2" fmla="val 188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24"/>
          <p:cNvSpPr/>
          <p:nvPr/>
        </p:nvSpPr>
        <p:spPr>
          <a:xfrm rot="10800000">
            <a:off x="5219640" y="2997000"/>
            <a:ext cx="1873440" cy="247320"/>
          </a:xfrm>
          <a:prstGeom prst="rightArrow">
            <a:avLst>
              <a:gd name="adj1" fmla="val 50000"/>
              <a:gd name="adj2" fmla="val 1893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6948360" y="198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77080" y="1484280"/>
            <a:ext cx="22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13 percent of the workforce complete a CVT-courses each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00"/>
                </a:solidFill>
                <a:latin typeface="Verdana"/>
              </a:rPr>
              <a:t>High mobility – low tenur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143000" y="645336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Verdana"/>
              </a:rPr>
              <a:t>EU Kommissionen: </a:t>
            </a:r>
            <a:r>
              <a:rPr b="0" i="1" lang="da-DK" sz="1400" spc="-1" strike="noStrike">
                <a:solidFill>
                  <a:srgbClr val="000000"/>
                </a:solidFill>
                <a:latin typeface="Verdana"/>
              </a:rPr>
              <a:t>Job Mobility in Europe</a:t>
            </a:r>
            <a:r>
              <a:rPr b="0" lang="da-DK" sz="1400" spc="-1" strike="noStrike">
                <a:solidFill>
                  <a:srgbClr val="000000"/>
                </a:solidFill>
                <a:latin typeface="Verdana"/>
              </a:rPr>
              <a:t>,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83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Object 2"/>
          <p:cNvGraphicFramePr/>
          <p:nvPr/>
        </p:nvGraphicFramePr>
        <p:xfrm>
          <a:off x="7451640" y="2565360"/>
          <a:ext cx="2383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565360"/>
                    <a:ext cx="238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60436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Rankings: EPL, UIB and ALMP </a:t>
            </a:r>
            <a:r>
              <a:rPr b="0" lang="da-DK" sz="1600" spc="-1" strike="noStrike">
                <a:solidFill>
                  <a:srgbClr val="006666"/>
                </a:solidFill>
                <a:latin typeface="Verdana"/>
              </a:rPr>
              <a:t>(source: OECD 2009)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99640" y="1052640"/>
            <a:ext cx="77835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EPL (0-1)         UIB (1. year)         ALMP (% of G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F4C-DF99-4515-AE01-F5A5F40D9AF7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900000" y="1557360"/>
          <a:ext cx="7921800" cy="492444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4168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          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X       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da-DK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DEN       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DEN        1,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        69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         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          2,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da-DK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DEN      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         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         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       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E        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        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E      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        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         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       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        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         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      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        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X         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        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         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0EB4-7F02-40CD-B60A-48FBBCCE4E4F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Employment rates, women, 2003 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(%, aged 15-64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539640" y="1197000"/>
          <a:ext cx="860436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86043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"/>
          <p:cNvGraphicFramePr/>
          <p:nvPr/>
        </p:nvGraphicFramePr>
        <p:xfrm>
          <a:off x="7236000" y="1628640"/>
          <a:ext cx="2379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628640"/>
                    <a:ext cx="237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Public child care coverage 2006 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C6E6-26CA-4A75-BA43-EE3DD168B901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911844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graphicFrame>
        <p:nvGraphicFramePr>
          <p:cNvPr id="324" name="Object 4"/>
          <p:cNvGraphicFramePr/>
          <p:nvPr/>
        </p:nvGraphicFramePr>
        <p:xfrm>
          <a:off x="971640" y="1197000"/>
          <a:ext cx="2379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197000"/>
                    <a:ext cx="237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9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6666"/>
                </a:solidFill>
                <a:latin typeface="Verdana"/>
              </a:rPr>
              <a:t>Crisis 2008-2010: Decrease in production, employment and hours worked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AAB9-5F95-40CB-BD64-DC1D0D4EE3EA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8964720" cy="587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2018-DDFF-424B-B1B0-C2BA92AC2BC1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-60480" y="0"/>
            <a:ext cx="91886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920" y="301680"/>
            <a:ext cx="742464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Political initiatives 2009-2010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wo ”</a:t>
            </a: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bank packages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” in order to give the financial sector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Offensive finance policy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, stimulating effective demand (expansive effects together with </a:t>
            </a: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strong income stabilizing mechanisms)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Tax cuts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n order to support domestic demand (reform benefit those with high incomes the mos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Reforms of LMP and social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5901-9619-4AA0-99B1-952DAB46B901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288108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Before the crisis: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Flexicurity had been sold to the EU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C38C-BE50-4699-9A2A-175CECA696F4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987640" y="31680"/>
            <a:ext cx="5905440" cy="682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E195-E3E5-4EDB-BA11-BA80A9AC0FB5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Clr>
                <a:srgbClr val="006666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LMP no longer ”owned” by the social partners: </a:t>
            </a:r>
            <a:r>
              <a:rPr b="0" lang="da-DK" sz="2000" spc="-1" strike="noStrike">
                <a:solidFill>
                  <a:srgbClr val="3333ff"/>
                </a:solidFill>
                <a:latin typeface="Verdana"/>
              </a:rPr>
              <a:t>new governance structure since 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Clr>
                <a:srgbClr val="006666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ff"/>
                </a:solidFill>
                <a:latin typeface="Verdana"/>
              </a:rPr>
              <a:t>Municipalization of employment policy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Clr>
                <a:srgbClr val="006666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In LMP: From qualification measures (learn-fare) to ”shortest possible way to a job” (</a:t>
            </a:r>
            <a:r>
              <a:rPr b="0" lang="da-DK" sz="2000" spc="-1" strike="noStrike">
                <a:solidFill>
                  <a:srgbClr val="3333ff"/>
                </a:solidFill>
                <a:latin typeface="Verdana"/>
              </a:rPr>
              <a:t>work-first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with threats and sanctions, paternalistic valu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Clr>
                <a:srgbClr val="006666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Organizational change from a learning system to central steering of </a:t>
            </a:r>
            <a:r>
              <a:rPr b="0" lang="da-DK" sz="2000" spc="-1" strike="noStrike">
                <a:solidFill>
                  <a:srgbClr val="3333ff"/>
                </a:solidFill>
                <a:latin typeface="Verdana"/>
              </a:rPr>
              <a:t>a fully bureaucratized system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(including deprofessionalization of employe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Clr>
                <a:srgbClr val="006666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Is weakening Danish flexicur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900000" y="561600"/>
            <a:ext cx="760104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cc0000"/>
                </a:solidFill>
                <a:latin typeface="Verdana"/>
              </a:rPr>
              <a:t>Danish ALMP:  from a beautiful swan to an ugly duckling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280" y="301680"/>
            <a:ext cx="7993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New LMP initiatives 2009-2010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15640" y="1557360"/>
            <a:ext cx="756756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Measures against </a:t>
            </a: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youth unemployment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mplemented in 2009 (two ”packages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Measures against </a:t>
            </a:r>
            <a:r>
              <a:rPr b="0" lang="da-DK" sz="2400" spc="-1" strike="noStrike">
                <a:solidFill>
                  <a:srgbClr val="3333ff"/>
                </a:solidFill>
                <a:latin typeface="Verdana"/>
              </a:rPr>
              <a:t>long-term unemployment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decided on in Spring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Resulting in stabilizing youth unemployment at a relatively low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Resulting in keeping long-term unemployment at a comparatively low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7548-F6FA-48FC-B76E-5A4D5419FDE4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301320"/>
            <a:ext cx="842508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Long-term unemployment 2010 – Denmark clearly below average level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C33E-2824-4B25-87F8-59E72A606F21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534960" y="1125360"/>
            <a:ext cx="8609040" cy="573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Object 4"/>
          <p:cNvGraphicFramePr/>
          <p:nvPr/>
        </p:nvGraphicFramePr>
        <p:xfrm>
          <a:off x="7524720" y="4581360"/>
          <a:ext cx="216000" cy="2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4581360"/>
                    <a:ext cx="2160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Social partner initiative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71640" y="1557000"/>
            <a:ext cx="770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Collective agreements and local arrangements adjus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New flexible working-time arrangements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(work-sharing, time reduction compensated by unemployment benefits, up to 26 week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More flexible rules regarding training subsi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Competence Funds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” to foster further training and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Wage-formation adju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Start of longer notice periods and dismissal allow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F46-D613-47A0-8BBA-69B52CC425AF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Latest political development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16000" y="1557360"/>
            <a:ext cx="80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00"/>
                </a:solidFill>
                <a:latin typeface="Verdana"/>
              </a:rPr>
              <a:t>June 2010: Reform of employment policy with shortening of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unemployment</a:t>
            </a:r>
            <a:r>
              <a:rPr b="0" lang="da-DK" sz="2000" spc="-1" strike="noStrike">
                <a:solidFill>
                  <a:srgbClr val="003300"/>
                </a:solidFill>
                <a:latin typeface="Verdana"/>
              </a:rPr>
              <a:t> benefit period from 4 to 2 years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00"/>
                </a:solidFill>
                <a:latin typeface="Verdana"/>
              </a:rPr>
              <a:t>Re-entering the unemployment benefit system has been made much more difficul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00"/>
                </a:solidFill>
                <a:latin typeface="Verdana"/>
              </a:rPr>
              <a:t>Public cuts, including activation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00"/>
                </a:solidFill>
                <a:latin typeface="Verdana"/>
              </a:rPr>
              <a:t>Education (also in activation) re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00"/>
                </a:solidFill>
                <a:latin typeface="Verdana"/>
              </a:rPr>
              <a:t>January 2011: An early retirement scheme (”efterlønnen”) to be cancelled according to the govern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2011: New election – new government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0E7E-1492-41AD-9B66-E13502187F5A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6666"/>
                </a:solidFill>
                <a:latin typeface="Verdana"/>
              </a:rPr>
              <a:t>Danish reactions to the crisis 2008-2011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900000" y="1484280"/>
          <a:ext cx="7921800" cy="512460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416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gree of dis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licy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utom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ro-economic 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Calibri"/>
                        </a:rPr>
                        <a:t>Strong automatic stabiliser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ue to high tax-rates and income support to unempl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Calibri"/>
                        </a:rPr>
                        <a:t>Growth packages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ly focused on public investments and tax redu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bour market policy (L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le-based system of </a:t>
                      </a: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Calibri"/>
                        </a:rPr>
                        <a:t>active measures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rgeted at all unemployed recipients of transfer inco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d a wide coverage of income suppor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number of minor </a:t>
                      </a: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Calibri"/>
                        </a:rPr>
                        <a:t>adjustments to the various active measu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itiatives to combat youth unemployment and long-term unemploy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Shortening the duration of benefits from 4 to 2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33D-8CBD-476D-B4F7-46A5EC8F7136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6920" y="301680"/>
            <a:ext cx="80661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Flexicurity account March 2011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6560" y="162828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Verdana"/>
              </a:rPr>
              <a:t>FLEXIBILITY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persistingly strong, high mobility, large gross flow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job creation still high, no persistent unemploy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Verdana"/>
              </a:rPr>
              <a:t>INCOME SECURITY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falling compensation 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benefit period from 4 to 2 years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Verdana"/>
              </a:rPr>
              <a:t>EMPLOYMENT SECURITY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activation with ”work first”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educational measures downs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a-DK" sz="2000" spc="-1" strike="noStrike">
                <a:solidFill>
                  <a:srgbClr val="cc0000"/>
                </a:solidFill>
                <a:latin typeface="Verdana"/>
              </a:rPr>
              <a:t>The right wing government is trying to weaken the security elements and has put the social partners on the side line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882-A71F-404D-A43F-4E7488D9CF8D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8" name="Straight Arrow Connector 5"/>
          <p:cNvCxnSpPr/>
          <p:nvPr/>
        </p:nvCxnSpPr>
        <p:spPr>
          <a:xfrm>
            <a:off x="971640" y="6237360"/>
            <a:ext cx="358920" cy="21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ransition>
    <p:push dir="r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301680"/>
            <a:ext cx="77119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But: Danish flexicurity will survice yet another crisi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280" y="1700280"/>
            <a:ext cx="8604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Hire and fire opportunities have been used – but the system has responded to the challenges of the recess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Unemployment still on a relatively low level – and is going to be reduced again in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Youth and long-term unemployment rising – but no explo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Adjustment mechanisms have been effective within the labour market (private regul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Institutional complementarities are still opera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DE47-0265-44B6-AA63-3BF07378DF75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D60-DE78-4B70-A144-65CCD5617053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77384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666"/>
                </a:solidFill>
                <a:latin typeface="Verdana"/>
              </a:rPr>
              <a:t>Three policy principles of flexicurity have not been totally destroyed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7738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Policy desig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ntegrate flexibility and 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Social dialogu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deliberativ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Outcom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rinciples of sustainable employment, protected mobility, and social cohe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3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3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3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3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Diagram 2"/>
          <p:cNvGrpSpPr/>
          <p:nvPr/>
        </p:nvGrpSpPr>
        <p:grpSpPr>
          <a:xfrm>
            <a:off x="1009440" y="1664280"/>
            <a:ext cx="7120080" cy="4035960"/>
            <a:chOff x="1009440" y="1664280"/>
            <a:chExt cx="7120080" cy="4035960"/>
          </a:xfrm>
        </p:grpSpPr>
        <p:sp>
          <p:nvSpPr>
            <p:cNvPr id="366" name="_s10244"/>
            <p:cNvSpPr/>
            <p:nvPr/>
          </p:nvSpPr>
          <p:spPr>
            <a:xfrm flipH="1">
              <a:off x="2789280" y="3682440"/>
              <a:ext cx="88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10245"/>
            <p:cNvSpPr/>
            <p:nvPr/>
          </p:nvSpPr>
          <p:spPr>
            <a:xfrm>
              <a:off x="1009440" y="3177720"/>
              <a:ext cx="1779480" cy="100908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Contractu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flexibil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10246"/>
            <p:cNvSpPr/>
            <p:nvPr/>
          </p:nvSpPr>
          <p:spPr>
            <a:xfrm>
              <a:off x="4569480" y="418716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10247"/>
            <p:cNvSpPr/>
            <p:nvPr/>
          </p:nvSpPr>
          <p:spPr>
            <a:xfrm>
              <a:off x="3679560" y="4691520"/>
              <a:ext cx="1780200" cy="100872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Modern soci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10248"/>
            <p:cNvSpPr/>
            <p:nvPr/>
          </p:nvSpPr>
          <p:spPr>
            <a:xfrm>
              <a:off x="5459760" y="3682440"/>
              <a:ext cx="88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10249"/>
            <p:cNvSpPr/>
            <p:nvPr/>
          </p:nvSpPr>
          <p:spPr>
            <a:xfrm>
              <a:off x="6349320" y="3177720"/>
              <a:ext cx="1780200" cy="1009080"/>
            </a:xfrm>
            <a:prstGeom prst="ellipse">
              <a:avLst/>
            </a:prstGeom>
            <a:solidFill>
              <a:srgbClr val="5f5f5f">
                <a:alpha val="50000"/>
              </a:srgbClr>
            </a:solidFill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Life-long learning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10250"/>
            <p:cNvSpPr/>
            <p:nvPr/>
          </p:nvSpPr>
          <p:spPr>
            <a:xfrm flipV="1">
              <a:off x="4569480" y="2673360"/>
              <a:ext cx="0" cy="5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10251"/>
            <p:cNvSpPr/>
            <p:nvPr/>
          </p:nvSpPr>
          <p:spPr>
            <a:xfrm>
              <a:off x="3679560" y="1664280"/>
              <a:ext cx="1780200" cy="10090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Active labour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marke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polici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10252"/>
            <p:cNvSpPr/>
            <p:nvPr/>
          </p:nvSpPr>
          <p:spPr>
            <a:xfrm>
              <a:off x="3679560" y="3177720"/>
              <a:ext cx="1780200" cy="1009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Adaptabil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of people an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Tahoma"/>
                </a:rPr>
                <a:t>compani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5" name="Text Box 13"/>
          <p:cNvSpPr/>
          <p:nvPr/>
        </p:nvSpPr>
        <p:spPr>
          <a:xfrm>
            <a:off x="2987640" y="256536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constru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4643280" y="2565360"/>
            <a:ext cx="28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ocial dialogue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15"/>
          <p:cNvSpPr/>
          <p:nvPr/>
        </p:nvSpPr>
        <p:spPr>
          <a:xfrm flipH="1">
            <a:off x="1835280" y="2060640"/>
            <a:ext cx="172872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Line 16"/>
          <p:cNvSpPr/>
          <p:nvPr/>
        </p:nvSpPr>
        <p:spPr>
          <a:xfrm flipH="1">
            <a:off x="5292720" y="4149720"/>
            <a:ext cx="1727280" cy="93492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195640" y="4149720"/>
            <a:ext cx="151272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18"/>
          <p:cNvSpPr/>
          <p:nvPr/>
        </p:nvSpPr>
        <p:spPr>
          <a:xfrm flipH="1" flipV="1">
            <a:off x="5508360" y="1916280"/>
            <a:ext cx="1654200" cy="122544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6372360" y="5013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0000"/>
                </a:solidFill>
                <a:latin typeface="Tahoma"/>
              </a:rPr>
              <a:t>Quick retraining of unemployed &amp; accreditation of prior learning</a:t>
            </a:r>
            <a:r>
              <a:rPr b="1" lang="nl-NL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900000" y="4797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0000"/>
                </a:solidFill>
                <a:latin typeface="Tahoma"/>
              </a:rPr>
              <a:t>Adjusting working hours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on temporarily ba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755640" y="1484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Rapid response: </a:t>
            </a:r>
            <a:r>
              <a:rPr b="0" lang="nl-NL" sz="1800" spc="-1" strike="noStrike">
                <a:solidFill>
                  <a:srgbClr val="cc0000"/>
                </a:solidFill>
                <a:latin typeface="Tahoma"/>
              </a:rPr>
              <a:t>quick transition  to other job or se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6372360" y="1628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0000"/>
                </a:solidFill>
                <a:latin typeface="Tahoma"/>
              </a:rPr>
              <a:t>Retraining and identification of new skills for new jo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2916360" y="3141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5148360" y="306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313200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4643280" y="414972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ocial part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684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Verdana"/>
              </a:rPr>
              <a:t>Flexicurity – also in bad w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kstboks 17"/>
          <p:cNvSpPr/>
          <p:nvPr/>
        </p:nvSpPr>
        <p:spPr>
          <a:xfrm>
            <a:off x="826920" y="6273720"/>
            <a:ext cx="68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</a:rPr>
              <a:t>(Ton Wilthagen: Presentation in Prague, EU Presidency Conference,  March 23,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8000"/>
                </a:solidFill>
                <a:latin typeface="Verdana"/>
              </a:rPr>
              <a:t>2008: Denmark as the role model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09480" y="645336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Verdana"/>
              </a:rPr>
              <a:t>Kilde: Eurost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609480" y="836640"/>
            <a:ext cx="828360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5"/>
          <p:cNvGraphicFramePr/>
          <p:nvPr/>
        </p:nvGraphicFramePr>
        <p:xfrm>
          <a:off x="1187280" y="3716280"/>
          <a:ext cx="209880" cy="2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716280"/>
                    <a:ext cx="209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85988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6666"/>
                </a:solidFill>
                <a:latin typeface="Verdana"/>
              </a:rPr>
              <a:t>Trust in Danish flexicurity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2520" y="2133720"/>
            <a:ext cx="38847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MS PGothic"/>
              </a:rPr>
              <a:t>“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  <a:ea typeface="MS PGothic"/>
              </a:rPr>
              <a:t>Still, I have faith in flexicurity. It will serve us well in both the best and the worst of times”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4876920" y="4876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85800" y="5373720"/>
            <a:ext cx="72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6666"/>
                </a:solidFill>
                <a:latin typeface="Verdana"/>
              </a:rPr>
              <a:t>Danish Finance Minister Claus Hjort Frederiksen, London School of Economics, 16th March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Picture 6" descr="chf_12"/>
          <p:cNvPicPr/>
          <p:nvPr/>
        </p:nvPicPr>
        <p:blipFill>
          <a:blip r:embed="rId1"/>
          <a:stretch/>
        </p:blipFill>
        <p:spPr>
          <a:xfrm>
            <a:off x="762120" y="1557360"/>
            <a:ext cx="4483080" cy="36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9900"/>
                </a:solidFill>
                <a:latin typeface="Verdana"/>
              </a:rPr>
              <a:t>Long-term unemployment EU 2008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1800" cy="545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5"/>
          <p:cNvGraphicFramePr/>
          <p:nvPr/>
        </p:nvGraphicFramePr>
        <p:xfrm>
          <a:off x="1476360" y="5373720"/>
          <a:ext cx="209520" cy="2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5373720"/>
                    <a:ext cx="209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2"/>
          <p:cNvSpPr/>
          <p:nvPr/>
        </p:nvSpPr>
        <p:spPr>
          <a:xfrm>
            <a:off x="3276720" y="476280"/>
            <a:ext cx="2592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324000" y="4005360"/>
            <a:ext cx="2592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6156360" y="4149720"/>
            <a:ext cx="2592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3635280" y="3645000"/>
            <a:ext cx="1944720" cy="181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348000" y="1125360"/>
            <a:ext cx="237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Macro-econom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95280" y="4653000"/>
            <a:ext cx="23763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Wage 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llective agre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372360" y="4076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156360" y="4581360"/>
            <a:ext cx="2519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The welfare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ncome securi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ervices and L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708360" y="4005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cc0000"/>
                </a:solidFill>
                <a:latin typeface="Arial"/>
              </a:rPr>
              <a:t>The social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1403280" y="2276280"/>
            <a:ext cx="201636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2123640" y="2637000"/>
            <a:ext cx="15130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508720" y="2708280"/>
            <a:ext cx="1727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4"/>
          <p:cNvSpPr/>
          <p:nvPr/>
        </p:nvSpPr>
        <p:spPr>
          <a:xfrm flipH="1" flipV="1">
            <a:off x="5724360" y="2349000"/>
            <a:ext cx="23767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305928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16"/>
          <p:cNvSpPr/>
          <p:nvPr/>
        </p:nvSpPr>
        <p:spPr>
          <a:xfrm flipH="1">
            <a:off x="2842920" y="59500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916360" y="4797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5580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79280" y="1890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cc0000"/>
                </a:solidFill>
                <a:latin typeface="Arial"/>
              </a:rPr>
              <a:t>The Nordic Approac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457200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64533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Kilde: Eurost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55640" y="4572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8000"/>
                </a:solidFill>
                <a:latin typeface="Verdana"/>
              </a:rPr>
              <a:t>Unemployment 1990-200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6934320" y="3962520"/>
          <a:ext cx="288720" cy="2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962520"/>
                    <a:ext cx="28872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468360" y="1268280"/>
          <a:ext cx="8474040" cy="532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268280"/>
                    <a:ext cx="847404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30168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8000"/>
                </a:solidFill>
                <a:latin typeface="Verdana"/>
              </a:rPr>
              <a:t>2010: </a:t>
            </a:r>
            <a:br>
              <a:rPr sz="3200"/>
            </a:br>
            <a:r>
              <a:rPr b="1" lang="da-DK" sz="3200" spc="-1" strike="noStrike">
                <a:solidFill>
                  <a:srgbClr val="008000"/>
                </a:solidFill>
                <a:latin typeface="Verdana"/>
              </a:rPr>
              <a:t>Denmark no longer in the lead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645336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Verdana"/>
              </a:rPr>
              <a:t>Kilde: Eurost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44000" cy="51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Object 5"/>
          <p:cNvGraphicFramePr/>
          <p:nvPr/>
        </p:nvGraphicFramePr>
        <p:xfrm>
          <a:off x="2268360" y="3716280"/>
          <a:ext cx="209880" cy="2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716280"/>
                    <a:ext cx="209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4E5-61C2-40D3-A82E-2D5BD9963901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5"/>
          <p:cNvGraphicFramePr/>
          <p:nvPr/>
        </p:nvGraphicFramePr>
        <p:xfrm>
          <a:off x="2771640" y="1989000"/>
          <a:ext cx="20952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989000"/>
                    <a:ext cx="209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560" y="301680"/>
            <a:ext cx="2521080" cy="370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6666"/>
                </a:solidFill>
                <a:latin typeface="Verdana"/>
              </a:rPr>
              <a:t>Is the party over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042B-D608-4F03-AFB3-06CB9C3E4A7B}" type="slidenum">
              <a:rPr b="0" lang="da-D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54:08Z</dcterms:created>
  <dc:creator>mbaerentsen</dc:creator>
  <dc:description/>
  <dc:language>en-US</dc:language>
  <cp:lastModifiedBy>lauris</cp:lastModifiedBy>
  <dcterms:modified xsi:type="dcterms:W3CDTF">2011-03-11T10:07:26Z</dcterms:modified>
  <cp:revision>301</cp:revision>
  <dc:subject/>
  <dc:title>Slide 1</dc:title>
</cp:coreProperties>
</file>