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FBF-1D7E-4DE6-A641-6B5602B2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DD2-E27A-40F0-8DC1-6538EA28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A6A-5371-4D8D-9DF7-BA56BAF0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B7E-521E-48E3-9A30-1262AF60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8F2-ABC8-438C-BB26-90C921DE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9F4-A5C7-4C98-8080-9B692953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5BF-F65B-4EE1-B88F-5A13A28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B11-EB5F-4FEB-BE49-476AF75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73F-049C-4206-AF62-F88B0BB2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D9E-7C86-474E-8E90-989D8EC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10B-58A3-462F-B53A-B57B00F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AA9-11ED-45B9-AA62-2426130B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1CB-D8CC-4629-904F-C0A23B28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Narrow"/>
              </a:rPr>
              <a:t>Latvia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seen through Danish glasses </a:t>
            </a:r>
            <a:br>
              <a:rPr sz="3200"/>
            </a:b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ublic sector reforms, 11 December 2009, R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rten Ha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d of Economics Depart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ckholm School of Economics in R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morten@sseriga.ed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tvian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GD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, constant prices, seasonally adjusted</a:t>
            </a:r>
            <a:br>
              <a:rPr sz="2400"/>
            </a:br>
            <a:r>
              <a:rPr b="1" lang="en-US" sz="2800" spc="-1" strike="noStrike">
                <a:solidFill>
                  <a:srgbClr val="009999"/>
                </a:solidFill>
                <a:latin typeface="Arial Narrow"/>
              </a:rPr>
              <a:t>Bombed back 4 year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447920"/>
          <a:ext cx="81532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153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 flipH="1">
            <a:off x="5562720" y="3352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tvia,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tax system cannot support the current size of the welfare state; too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low tax ba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too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few taxe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9999"/>
                </a:solidFill>
                <a:latin typeface="Arial Narrow"/>
              </a:rPr>
              <a:t>inconsist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Last memento from D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public spending creates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emands and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expectatio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352680"/>
            <a:ext cx="457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Which welfare system to promo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Economi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not an expert on public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Danis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but not here to promote Danish values /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Narrow"/>
              </a:rPr>
              <a:t>– </a:t>
            </a:r>
            <a:r>
              <a:rPr b="1" i="1" lang="en-US" sz="2400" spc="-1" strike="noStrike">
                <a:solidFill>
                  <a:srgbClr val="333399"/>
                </a:solidFill>
                <a:latin typeface="Arial Narrow"/>
              </a:rPr>
              <a:t>just a few observations from economics, from Denma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Narrow"/>
              </a:rPr>
              <a:t>that might be of some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 sort of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elfare stat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oes Latvia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 Narrow"/>
              </a:rPr>
              <a:t>Anonymous IMF ob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Latvia taxes like America but wants to sp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like the Nordic countr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overnment revenue as a percent of GDP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76520"/>
          <a:ext cx="822960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 sort of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elfare stat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oes Latvia want?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 Narrow"/>
              </a:rPr>
              <a:t>Latvian taxation is not even Amer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uch more un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uch more favouring higher incomes and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geared towards supporting a Nordic welfare state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K system – ultra-brief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job security &gt;&lt;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low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but still high)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ry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high degre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 Narrow"/>
              </a:rPr>
              <a:t>Suppor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llingness t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 Narrow"/>
              </a:rPr>
              <a:t>Enfor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ublic trust of politicians</a:t>
            </a:r>
            <a:br>
              <a:rPr sz="28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Global Competitiveness Report 2009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DK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EE 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LV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LT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L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fulness of government spend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Global Competitiveness Report 2009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DK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EE 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LV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LT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L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lity of overall infrastructu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Global Competitiveness Report 2009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DK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EE 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LV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LT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L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5:43:40Z</dcterms:created>
  <dc:creator>morten</dc:creator>
  <dc:description/>
  <dc:language>en-US</dc:language>
  <cp:lastModifiedBy>morten</cp:lastModifiedBy>
  <dcterms:modified xsi:type="dcterms:W3CDTF">2009-12-08T16:56:36Z</dcterms:modified>
  <cp:revision>92</cp:revision>
  <dc:subject/>
  <dc:title>Possible development scenarios for the Latvian economy</dc:title>
</cp:coreProperties>
</file>