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5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camera.wav" ContentType="audio/x-wav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A7F5BD20-7F6C-43B7-B48C-E792B1982E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ooter Placeholder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300" spc="-1" strike="noStrike">
                <a:solidFill>
                  <a:srgbClr val="000000"/>
                </a:solidFill>
                <a:latin typeface="Garamond"/>
              </a:rPr>
              <a:t>Politicians – wise, honest, response to the majority expectations of society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lv-LV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24AD0749-9AA4-4E61-8494-55FEC0B5AD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6FF7-C86F-4ED5-BC17-EAED258A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A51A-DAA9-44F2-99A5-0AFCD7A6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4216D-AB4E-4B10-BBE8-6BCB6FEAE1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83D1D-31DA-44EE-BCE3-620B62462D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445E0-CB3D-4933-B8E3-ED38418A9A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F3FD9-CDF3-4C18-801D-381373E159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5680F-7160-4CD4-8FC8-7676026B6B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9666E-F2AA-496E-9D06-5AEB608B5B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7EAA6-CF2F-4886-9CF5-E226B57BE0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A67C36-441C-4627-8788-EB2691ED1F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C02C0-0A6E-4168-8D94-965E6F4B56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44CC-4504-4BCE-8B1E-C4495712B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12A0-E7A1-482B-AEC4-8B25C515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7FD1-27E0-4329-8C60-506AB03C9A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34D3-1473-483D-8165-CC07692E64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CBFA-1EB6-476E-9CF9-42FFC7283E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2A5E-9F9B-479B-ABC8-2701660511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E29F-B4FB-4865-8DA7-3EACDA4A39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7193E-3D6C-4C26-9080-7AAED6DEF5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9F2D-EDA6-44C5-8CF4-EE8D40A027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FA45-BCD5-4DFB-A97E-8D02FBB174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73D6C-82A5-4CED-82A7-B4E80AA155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C7A8-E26C-48B2-8A05-40D81BE18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4355-DD34-4199-9D24-F07AC360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74AA9-FCCC-45E6-A796-3D994E8622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C02C5-0FFA-4840-8BC8-4D33B38803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7571E-8165-4FF3-95DD-A58D549FE4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3A289-3FF3-4F90-8E2E-8A0F01AE0D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243F0-9A57-4582-89AE-14B3219FEB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A435C-4F77-4030-9539-E8A6DA8982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3ADE2-5A8D-4657-ABA4-A6323D3915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C8429-381F-4117-8280-55702BF63F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7F390-BCD6-44AD-9A55-A59293CCBE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7599D-597F-4EF7-9639-E7E4BEF12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78FEA-BD4A-48E7-9C2E-F8239227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CD462-42DD-497A-ACB5-15950EBE06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7FC14-2710-41C7-9FA9-39BF311E93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14E9D-E8F6-4EEE-B4FB-6062CB660D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BF281-9D82-4E78-966E-F4BFB9AD47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42D4FF-883E-4B8A-834E-44362DA4F2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8BFF6-B083-4FBD-9433-E4D0E160B2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A463B-A357-4713-9390-D283A1463E9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D280EF-AFD1-4AC3-B7BC-3D34B0DAA0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907285-FBE2-4997-962E-6FE1691679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955A5-2B3B-4C60-86C9-0703D34B4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56972-B179-434C-89BB-B378DC50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7A0DEB-72CD-4032-BA96-3EA8E322EB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18E968-090B-4D24-A2F3-A8288EC7153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BEB4C-00BA-4659-B679-99B65DF349D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59D50-6A20-407E-9E6D-A43CA427A92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8EF05-D8B7-43AC-ABFA-461BF0E95B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4F7C9-610B-4A09-8CC6-9F14C14A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CC8B2F-ECC7-441A-95FA-23BB03C5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97B5E-EB4E-4172-9E8C-3851B05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A5A3C-F8D7-4CAE-AAF6-B2AF0379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6D09A-5506-41A5-A46E-A0A1C9A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FB3F3-4F5B-4E22-AA69-083E380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8BCA90-7243-485F-B5C1-D1BCDF1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7FAE8-2879-4A66-B28E-1842B1C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5BB94-268B-43DD-8EC2-1AFB1CC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79D72-4ED5-403A-82F1-8CB42D3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0DCAC-8F9B-4B72-9754-0A8D214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657A7-A447-411F-B57A-7B868319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C022AE-442B-4503-AAD1-E14369E2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BEBE7-CC01-4FC3-82B6-4F44CB57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2E002C-E7BF-41F8-BC22-A910635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56DEF7-734C-4D4A-8357-F3C4195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9B59-2178-4EDE-AE97-251605E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9F30F-2D97-40CE-B30D-BEEBB751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209500-855E-46C9-B038-DB3A9ED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03926D-0FFB-46AA-AC40-C21806EB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44C720-A640-4321-A42B-A204EC6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13292-19F0-4143-9051-57CDB3D1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BE9C66-374E-4ACD-BF9C-5CD9A98F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995C4C-953D-4EEE-8729-C1BEB1A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545CFF-B9BC-4F7E-8F0B-F0683622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E6B4C-EB92-449A-A136-8CDFCA49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807AD4-1854-479F-8E9D-1A07D277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7E69-C38E-4FC8-9EC0-6845320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7D71D7-A100-484F-A559-1E06987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7DBEE1-5F73-44F5-8D9D-053A520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E124D-F25B-4B84-BA0A-CBE51405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9A8413-B87F-43D6-98B3-CFE97E3D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6096B4-9BCC-4A53-B6CF-DCA8A81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FB9F96-3A9D-42D8-9BA9-62DB24F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3EC6B8-C861-4FB4-AF02-8A64B5A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A06A87-8FBA-4042-A517-7373119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7B7156-4673-4CDD-BD87-3B0FF4C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D8EC42-9D66-460C-A96C-850FC324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34CD-4F93-4B5E-B029-1CD0E33B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735C36-795E-4A82-97FE-C0FA3EE5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803FEE-8DC9-4D73-A700-285823A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3938C-0945-494E-AF08-13D5F6B3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8FD691-562F-4EDE-9CF9-929188C6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719BDD-9674-4B51-9F21-48655E40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E7929-90DE-4D1C-B8CD-A908F9D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9DF915-B607-43CB-BCE1-BB73E91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E9F7BD-BA60-4FF8-B588-765A8C7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DF4E0-E267-4E27-A187-F19F378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D0FCE5-3572-44F0-B0FA-E98D1F7F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1D0F8-7507-47DF-8FB1-BFA6B47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F2B5BA-C2E5-4B2B-9CDD-F2866E5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0E6FB4-C727-4EF3-ABF5-9FF6530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6039E3-2845-44B5-B8AB-0E715620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333B-0A80-409C-960C-2172FAC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0CC37-A446-466D-B315-AFBE9B3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85F1-BF60-4798-BFF7-CDF13F5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2A19-E5B6-483B-B044-A8435D7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CCA3F-62B7-4CB4-A541-CD6CBBE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632CA-86FF-4344-AB77-8BF3972B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543D-3497-409C-9951-CD83012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EC7B-E95B-407D-BBA3-414897CF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B94F-93D1-4959-B050-E18D8D342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088-E6B6-4A9E-99B2-509063F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0037-9BEB-4881-8E99-CE108047CB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9007-045E-4C9B-B9FC-ECF4AFB7A1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9067-26E3-4920-8B98-E2626BD864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CBA7-0F4E-40AD-A1AB-67D08A6594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948D-31EA-4C39-84C0-C1C9E5F25D3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1EF7-E672-449E-B22A-1D76B53439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DEED-8B8B-45E3-A5AD-2790AF80C6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83E4-7E53-47B7-B6D7-7C1464FC47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A35E-01CB-4F94-A118-2611F45989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A709-D9BF-4332-B76C-B716BB5A8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5F12-739D-49A6-9ABF-89DD8219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0977-D0E1-46EA-A6E8-763F15A1AE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C2E5B-94E0-475A-8934-F7B5672ABA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31395-7EC1-48B2-B356-C763872795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03CBB-398F-45A6-9FD3-D42C47C269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27F36-B8F1-4FBF-9F30-1FDDC265DB5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1C060-0A62-4E86-A4D4-82C3FA2F8D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96E0D-83E0-455B-A558-C40F31C054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CF701-7723-4077-BDEA-0E4E8C8AB9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2C511-396F-42F1-B32D-FD933F17FB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9132F-78C9-43CD-9DCE-145FD0B27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DE55-DEF3-4004-AFCE-7DB7DC32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A514D-3EB4-4789-900C-82C389D616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88FE1-3CC3-4967-BF2C-EB22DC22A5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CF846-75DB-4C07-BBF1-03F65D3172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F21C-F580-4D47-BA66-E24B9A3798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FA72-9066-4F49-8A42-493BCAAE5B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A5B3-2051-4091-87F7-DC29AA9EE8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D1CE-0D00-4A1E-ACD7-3F0C886D9D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0D59-0F61-43FB-94E3-172207B8C0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F1DE-A424-458B-921E-E871CE846D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D814-CA18-4822-BC70-7583C8A45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05F3-2B47-4E94-A4BC-084D28B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BE3A-39F8-4632-A9EC-9F2AD71383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C333-C508-487E-BFEC-12F742A6FC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52F1-0B10-4A23-AE02-8587683A7E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DCAF-86A3-4A2E-B792-8FE8C304B1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D32A-687B-432E-BB3B-E7E0B7DD65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80E39-D57E-4E43-BCA9-60930719B7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FACEF-FDA2-480E-B777-3F65FBBD6F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15A4E-A999-4940-98B9-B59477283C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F3A70-33D4-4CA8-993E-800F4C8759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22334-1F1C-4AAF-97A8-7E5F819A9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F512-F538-43C3-A960-24B4AB3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897280" y="4638600"/>
            <a:ext cx="6858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2E2DF-7A5F-4CDF-AF2A-249FA88E91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9A776-84E2-4A27-85A4-FBC96BEE4E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8F9B9-B302-4964-85A3-6CD2DD278A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B83D9-B67E-4354-BFFC-29B851729C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1680" y="6758640"/>
            <a:ext cx="2290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BDAE3-0274-4EED-B708-B5305BEDCF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565640" y="626436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168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65640" y="6758640"/>
            <a:ext cx="1117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58EB1-D877-40A7-A477-156328DC5F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16604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940760" y="626436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9168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116604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1940760" y="6758640"/>
            <a:ext cx="737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D4184-C903-4955-B715-2359211D14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C580E-A53E-4257-B189-60D7005006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8E97CB-D8C6-4135-83D3-3269DECDF1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440C9-1999-4FC2-86BA-1DB60E5FA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258920" indent="-25092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092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64000" y="7008840"/>
            <a:ext cx="1513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5764B06D-4B0C-4C6F-99ED-7F7D574394CE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4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18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C846F48F-DAA3-4E7B-9CCD-7821CD72639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9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7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20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333121E4-82B6-4315-9406-5129FDA1158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1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0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2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478FF8B6-16E7-4672-B4A2-A77EF393DDA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3" descr="fintempl-lat-sarts.png"/>
          <p:cNvPicPr/>
          <p:nvPr/>
        </p:nvPicPr>
        <p:blipFill>
          <a:blip r:embed="rId2"/>
          <a:stretch/>
        </p:blipFill>
        <p:spPr>
          <a:xfrm>
            <a:off x="763560" y="4683240"/>
            <a:ext cx="9328320" cy="16128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4" name="Picture 5" descr="logo2.emf"/>
          <p:cNvPicPr/>
          <p:nvPr/>
        </p:nvPicPr>
        <p:blipFill>
          <a:blip r:embed="rId3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6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6" name="Picture 5" descr="logo2.emf"/>
          <p:cNvPicPr/>
          <p:nvPr/>
        </p:nvPicPr>
        <p:blipFill>
          <a:blip r:embed="rId4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4"/>
          </p:nvPr>
        </p:nvSpPr>
        <p:spPr>
          <a:xfrm>
            <a:off x="504360" y="70088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3444840" y="7008840"/>
            <a:ext cx="3191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6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D6D13EFA-40A0-40F9-B1EC-ACA37A3118A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13" descr="fintempl-lat-sarts.png"/>
          <p:cNvPicPr/>
          <p:nvPr/>
        </p:nvPicPr>
        <p:blipFill>
          <a:blip r:embed="rId2"/>
          <a:stretch/>
        </p:blipFill>
        <p:spPr>
          <a:xfrm>
            <a:off x="763560" y="4683240"/>
            <a:ext cx="9328320" cy="16128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0" name="Picture 5" descr="logo2.emf"/>
          <p:cNvPicPr/>
          <p:nvPr/>
        </p:nvPicPr>
        <p:blipFill>
          <a:blip r:embed="rId3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6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4"/>
          <a:stretch/>
        </p:blipFill>
        <p:spPr>
          <a:xfrm>
            <a:off x="392040" y="5364000"/>
            <a:ext cx="2457360" cy="549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7"/>
          </p:nvPr>
        </p:nvSpPr>
        <p:spPr>
          <a:xfrm>
            <a:off x="504360" y="70088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8"/>
          </p:nvPr>
        </p:nvSpPr>
        <p:spPr>
          <a:xfrm>
            <a:off x="3444840" y="7008840"/>
            <a:ext cx="3191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9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AF0F0C99-DDF6-4CED-ABF7-9037511AA86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3" descr="fintempl-lat-sarts.png"/>
          <p:cNvPicPr/>
          <p:nvPr/>
        </p:nvPicPr>
        <p:blipFill>
          <a:blip r:embed="rId2"/>
          <a:stretch/>
        </p:blipFill>
        <p:spPr>
          <a:xfrm>
            <a:off x="763560" y="4683240"/>
            <a:ext cx="9328320" cy="16128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4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6" name="Picture 5" descr="logo2.emf"/>
          <p:cNvPicPr/>
          <p:nvPr/>
        </p:nvPicPr>
        <p:blipFill>
          <a:blip r:embed="rId3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6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8" name="Picture 5" descr="logo2.emf"/>
          <p:cNvPicPr/>
          <p:nvPr/>
        </p:nvPicPr>
        <p:blipFill>
          <a:blip r:embed="rId4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0"/>
          </p:nvPr>
        </p:nvSpPr>
        <p:spPr>
          <a:xfrm>
            <a:off x="504360" y="70088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1"/>
          </p:nvPr>
        </p:nvSpPr>
        <p:spPr>
          <a:xfrm>
            <a:off x="3444840" y="7008840"/>
            <a:ext cx="3191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2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0CCDB059-FAA3-4722-8E73-1E0D18B9BCB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13" descr="fintempl-lat-sarts.png"/>
          <p:cNvPicPr/>
          <p:nvPr/>
        </p:nvPicPr>
        <p:blipFill>
          <a:blip r:embed="rId2"/>
          <a:stretch/>
        </p:blipFill>
        <p:spPr>
          <a:xfrm>
            <a:off x="763560" y="4683240"/>
            <a:ext cx="9328320" cy="16128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2" name="Picture 5" descr="logo2.emf"/>
          <p:cNvPicPr/>
          <p:nvPr/>
        </p:nvPicPr>
        <p:blipFill>
          <a:blip r:embed="rId3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4" name="Picture 7" descr="logo2.emf"/>
          <p:cNvPicPr/>
          <p:nvPr/>
        </p:nvPicPr>
        <p:blipFill>
          <a:blip r:embed="rId4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3"/>
          </p:nvPr>
        </p:nvSpPr>
        <p:spPr>
          <a:xfrm>
            <a:off x="504360" y="70088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4"/>
          </p:nvPr>
        </p:nvSpPr>
        <p:spPr>
          <a:xfrm>
            <a:off x="3444840" y="7008840"/>
            <a:ext cx="3191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5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522AD46F-4AA1-487A-BE84-6057AFCDE69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70088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A5781D59-B778-464A-9F1B-DC8F1F3D018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fintempl-lat-sarts.png"/>
          <p:cNvPicPr/>
          <p:nvPr/>
        </p:nvPicPr>
        <p:blipFill>
          <a:blip r:embed="rId2"/>
          <a:stretch/>
        </p:blipFill>
        <p:spPr>
          <a:xfrm>
            <a:off x="763560" y="4683240"/>
            <a:ext cx="932832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7280" y="4638600"/>
            <a:ext cx="6858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91680" y="6264360"/>
            <a:ext cx="22906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 algn="ctr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9640" y="5210280"/>
            <a:ext cx="2071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9" name="Picture 5" descr="logo2.emf"/>
          <p:cNvPicPr/>
          <p:nvPr/>
        </p:nvPicPr>
        <p:blipFill>
          <a:blip r:embed="rId3"/>
          <a:stretch/>
        </p:blipFill>
        <p:spPr>
          <a:xfrm>
            <a:off x="754200" y="5353200"/>
            <a:ext cx="175392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tmpl_lat_sarts.png"/>
          <p:cNvPicPr/>
          <p:nvPr/>
        </p:nvPicPr>
        <p:blipFill>
          <a:blip r:embed="rId2"/>
          <a:stretch/>
        </p:blipFill>
        <p:spPr>
          <a:xfrm>
            <a:off x="0" y="1494000"/>
            <a:ext cx="9516960" cy="2666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258920" indent="-25092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092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266920" indent="-25092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5" descr="logo2.emf"/>
          <p:cNvPicPr/>
          <p:nvPr/>
        </p:nvPicPr>
        <p:blipFill>
          <a:blip r:embed="rId4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1896840" y="706644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8136000" y="7008840"/>
            <a:ext cx="1441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CACE724A-785B-43CA-AC4B-87CD793BB81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2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0"/>
          </p:nvPr>
        </p:nvSpPr>
        <p:spPr>
          <a:xfrm>
            <a:off x="8136000" y="7008840"/>
            <a:ext cx="1441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F615BC38-03B8-4671-AD24-575F41993A9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2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8E27A9E7-C80F-4EF4-A6A3-9273DB75F62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3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8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4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569FA485-BDF5-4E34-9945-DE642C21247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0" y="6924600"/>
            <a:ext cx="1454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2"/>
          <a:stretch/>
        </p:blipFill>
        <p:spPr>
          <a:xfrm>
            <a:off x="95400" y="6996240"/>
            <a:ext cx="1231920" cy="385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fintempl_ieks_lat-sarts.png"/>
          <p:cNvPicPr/>
          <p:nvPr/>
        </p:nvPicPr>
        <p:blipFill>
          <a:blip r:embed="rId3"/>
          <a:stretch/>
        </p:blipFill>
        <p:spPr>
          <a:xfrm>
            <a:off x="-903240" y="-258840"/>
            <a:ext cx="10874160" cy="7620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16"/>
          </p:nvPr>
        </p:nvSpPr>
        <p:spPr>
          <a:xfrm>
            <a:off x="722448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8A6D007D-0CB3-485B-B520-FEFDEEE309D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1896840" y="7067520"/>
            <a:ext cx="6072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iba.Petersone@mk.gov.lv" TargetMode="External"/><Relationship Id="rId2" Type="http://schemas.openxmlformats.org/officeDocument/2006/relationships/hyperlink" Target="mailto:Baiba.Petersone@mk.gov.l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"/>
          <p:cNvSpPr/>
          <p:nvPr/>
        </p:nvSpPr>
        <p:spPr>
          <a:xfrm>
            <a:off x="1368360" y="468360"/>
            <a:ext cx="544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Arial"/>
                <a:ea typeface="Tahoma"/>
              </a:rPr>
              <a:t>Strukturālās reformas  valsts pārvaldē – esošā situācija un izaicinājum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4" name="TextBox 2"/>
          <p:cNvSpPr/>
          <p:nvPr/>
        </p:nvSpPr>
        <p:spPr>
          <a:xfrm>
            <a:off x="6985080" y="5495760"/>
            <a:ext cx="269856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Tahoma"/>
              </a:rPr>
              <a:t>Baiba Pēterson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Tahoma"/>
              </a:rPr>
              <a:t>Valsts kancelejas direktores vietniece valsts pāŗvaldes un politikas koordinācijas lietā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ahoma"/>
                <a:ea typeface="Tahoma"/>
              </a:rPr>
              <a:t>Tālr.: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Tahoma"/>
              </a:rPr>
              <a:t>67082906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ahoma"/>
                <a:ea typeface="Tahoma"/>
              </a:rPr>
              <a:t>E-pasts: </a:t>
            </a:r>
            <a:r>
              <a:rPr b="0" lang="lv-LV" sz="12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1"/>
              </a:rPr>
              <a:t>Baiba.Petersone</a:t>
            </a:r>
            <a:r>
              <a:rPr b="0" lang="lv-LV" sz="12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@mk.gov.lv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Tahoma"/>
              </a:rPr>
              <a:t>11</a:t>
            </a:r>
            <a:r>
              <a:rPr b="0" lang="lv-LV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Tahoma"/>
              </a:rPr>
              <a:t>12</a:t>
            </a:r>
            <a:r>
              <a:rPr b="0" lang="lv-LV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Tahoma"/>
              </a:rPr>
              <a:t>2009</a:t>
            </a:r>
            <a:r>
              <a:rPr b="0" lang="lv-LV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1655640" y="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1440000" y="76680"/>
            <a:ext cx="806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0000"/>
                </a:solidFill>
                <a:latin typeface="Arial"/>
              </a:rPr>
              <a:t>Iestāžu skaita samazināšana - paveiktais</a:t>
            </a:r>
            <a:r>
              <a:rPr b="0" lang="lv-LV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37" name="Object 4"/>
          <p:cNvGraphicFramePr/>
          <p:nvPr/>
        </p:nvGraphicFramePr>
        <p:xfrm>
          <a:off x="1224000" y="900000"/>
          <a:ext cx="8856720" cy="533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900000"/>
                    <a:ext cx="885672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Rectangle 5"/>
          <p:cNvSpPr/>
          <p:nvPr/>
        </p:nvSpPr>
        <p:spPr>
          <a:xfrm>
            <a:off x="1871640" y="5148360"/>
            <a:ext cx="777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ff0000"/>
                </a:solidFill>
                <a:latin typeface="Arial"/>
              </a:rPr>
              <a:t>Par 67 % samazināts valsts aģentūru skai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o 76 aģentūrām 2009.gada sākumā uz 25 valsts aģentūrām gada beigās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5" descr=""/>
          <p:cNvPicPr/>
          <p:nvPr/>
        </p:nvPicPr>
        <p:blipFill>
          <a:blip r:embed="rId1"/>
          <a:srcRect l="2923" t="18344" r="4196" b="23504"/>
          <a:stretch/>
        </p:blipFill>
        <p:spPr>
          <a:xfrm>
            <a:off x="936720" y="252360"/>
            <a:ext cx="841536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84000" y="302760"/>
            <a:ext cx="799308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800000"/>
                </a:solidFill>
                <a:latin typeface="Arial"/>
              </a:rPr>
              <a:t>Valsts iestāžu skaits un struktūra – turpmākā rīcīb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655280" y="1260000"/>
            <a:ext cx="799308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Ministriju centrālo aparātu standartizācija, nosakot vienotus principus struktūrvienībām un minimālajam darbinieku skaitam pa galvenajiem funkciju bloki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olitikas veidoš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juridiskā analī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eviešanas kontro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bal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olitikas veidošanas un uzraudzības funkciju centralizācija ministrijās un pakalpojumu sniegšanas funkciju decentralizācija reģionālajā un vietējā līmenī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entralizētas reformu vadības un koordinācijas funkcijas stiprināšana valdības centr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800000"/>
                </a:solidFill>
                <a:latin typeface="Tahoma"/>
              </a:rPr>
              <a:t>Valsts funkciju analīze – paveikta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55280" y="118908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ikta valsts funkciju inventarizācija -1005 funkcij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Funkciju apraksti sasaistīti ar budžeta programmu aprakstiem, bāzes finansējumu un rezultatīvajiem rādītājie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Izstrādāta IT sistēma, nodrošinot funkciju vērtēšanu un informācijas apkopošan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ikts funkciju izvērtējums (sociālie partneri, LPS, Finanšu ministrij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Izveidota vietne internetā “„Piedalies reformā! Ieliec ministrijai atzīmi” , kur funkcijas var vērtēt ikviens iedzīvotāj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5"/>
          <p:cNvSpPr/>
          <p:nvPr/>
        </p:nvSpPr>
        <p:spPr>
          <a:xfrm>
            <a:off x="8136000" y="7008840"/>
            <a:ext cx="1441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7CF2677C-E683-4E62-8C50-76A2BB318639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360360" y="0"/>
            <a:ext cx="792000" cy="6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. 3.</a:t>
            </a:r>
            <a:r>
              <a:rPr b="0" lang="lv-LV" sz="1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47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10080720" cy="71643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5"/>
          <p:cNvSpPr/>
          <p:nvPr/>
        </p:nvSpPr>
        <p:spPr>
          <a:xfrm>
            <a:off x="144360" y="396720"/>
            <a:ext cx="331164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Arial"/>
              </a:rPr>
              <a:t>Funkciju analīzes sistēma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ahoma"/>
              </a:rPr>
              <a:t>Mērķis - </a:t>
            </a:r>
            <a:r>
              <a:rPr b="0" i="1" lang="lv-LV" sz="3200" spc="-1" strike="noStrike">
                <a:solidFill>
                  <a:srgbClr val="000000"/>
                </a:solidFill>
                <a:latin typeface="Tahoma"/>
              </a:rPr>
              <a:t>Maza, profesionāla, uz iedzīvotājiem orientēta valsts pārvalde, kas strādā visas sabiedrības labā. </a:t>
            </a:r>
            <a:br>
              <a:rPr sz="3200"/>
            </a:br>
            <a:r>
              <a:rPr b="0" i="1" lang="lv-LV" sz="2000" spc="-1" strike="noStrike">
                <a:solidFill>
                  <a:srgbClr val="000000"/>
                </a:solidFill>
                <a:latin typeface="Tahoma"/>
              </a:rPr>
              <a:t>(Valsts pārvaldes optimizācijas plā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tretch/>
        </p:blipFill>
        <p:spPr>
          <a:xfrm>
            <a:off x="1584360" y="1814400"/>
            <a:ext cx="7993080" cy="48895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"/>
          <p:cNvSpPr/>
          <p:nvPr/>
        </p:nvSpPr>
        <p:spPr>
          <a:xfrm>
            <a:off x="7201080" y="3060720"/>
            <a:ext cx="2519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0000"/>
                </a:solidFill>
                <a:latin typeface="Arial"/>
              </a:rPr>
              <a:t>8% īpatsvars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no iedzīvotāju skaita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(vidēji gadā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2" name="Line 5"/>
          <p:cNvSpPr/>
          <p:nvPr/>
        </p:nvSpPr>
        <p:spPr>
          <a:xfrm>
            <a:off x="2087640" y="320508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Darbinieku skaits – vispārējais valdības sektors </a:t>
            </a:r>
            <a:br>
              <a:rPr sz="2800"/>
            </a:br>
            <a:r>
              <a:rPr b="0" lang="lv-LV" sz="2800" spc="-1" strike="noStrike">
                <a:solidFill>
                  <a:srgbClr val="ff3300"/>
                </a:solidFill>
                <a:latin typeface="Tahoma"/>
              </a:rPr>
              <a:t>– 23 136 no 2008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2160720" y="1763640"/>
          <a:ext cx="747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720" y="1763640"/>
                    <a:ext cx="747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Line 8"/>
          <p:cNvSpPr/>
          <p:nvPr/>
        </p:nvSpPr>
        <p:spPr>
          <a:xfrm>
            <a:off x="6553080" y="2052720"/>
            <a:ext cx="0" cy="381636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3600360" y="1908000"/>
            <a:ext cx="914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Garamon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7561440" y="1908000"/>
            <a:ext cx="914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Garamond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ahoma"/>
              </a:rPr>
              <a:t>Vispārējais valdības sektors – centrālā pārvalde, pašvaldības, komersa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0" name="Object 5"/>
          <p:cNvGraphicFramePr/>
          <p:nvPr/>
        </p:nvGraphicFramePr>
        <p:xfrm>
          <a:off x="1440000" y="1620720"/>
          <a:ext cx="820872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620720"/>
                    <a:ext cx="8208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584000" y="302760"/>
            <a:ext cx="799308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0000"/>
                </a:solidFill>
                <a:latin typeface="Arial"/>
              </a:rPr>
              <a:t>Valsts funkciju izvērtēšana – turpmākā rīcī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584000" y="118908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pabeidzama 2010.gada budžeta veidošanas ietvaros uzsāktā valsts funkciju izvērtēšana, piedāvājot optimizētu funkciju gala sarakstu ar skaidru uzstādījumu pa šādām funkciju kategorijā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- Saglabājamās valsts funkcij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- Samazinātā apjomā īstenojamās funkcij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- Privātajam sektoram deleģējamās valsts funkcij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- Pārtraucamās valsts funkcij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balsta funkciju centralizācij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valdes procedūru vienkāršošana un e-pakalpojumu attīstīb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584000" y="-360"/>
            <a:ext cx="79930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800000"/>
                </a:solidFill>
                <a:latin typeface="Tahoma"/>
              </a:rPr>
              <a:t>Administratīvā sloga samazināšanas pasākumi - paveikt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584000" y="97128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Atvieglota atskaitīšanās kārtīb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amazināts kontroļu skaits, apvienotas dažādas kontr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amazināts iesniedzamo dokumentu skaits dažādu atļauju un sertifikātu iegūšan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reču pavadzīmju prasības atcelš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ienas pieturas aģentūras principa piemēroš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Mikrouzņēmumu atbalsta progra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ienas pieturas aģentūru ieviešanas modelis pašvaldībā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ikti pasākumi informācijas aprites veicināšanai elektroniskā formā un e-pakalpojumu ieviešan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433600" y="466560"/>
            <a:ext cx="568656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Laba valsts pārval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2521080" y="2100240"/>
            <a:ext cx="4955760" cy="4978080"/>
            <a:chOff x="2521080" y="2100240"/>
            <a:chExt cx="4955760" cy="4978080"/>
          </a:xfrm>
        </p:grpSpPr>
        <p:sp>
          <p:nvSpPr>
            <p:cNvPr id="707" name="Puzzle3"/>
            <p:cNvSpPr/>
            <p:nvPr/>
          </p:nvSpPr>
          <p:spPr>
            <a:xfrm>
              <a:off x="4934520" y="2100240"/>
              <a:ext cx="1947960" cy="2645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8" name="Puzzle2"/>
            <p:cNvSpPr/>
            <p:nvPr/>
          </p:nvSpPr>
          <p:spPr>
            <a:xfrm>
              <a:off x="4367880" y="4027320"/>
              <a:ext cx="3108960" cy="2409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9" name="Puzzle4"/>
            <p:cNvSpPr/>
            <p:nvPr/>
          </p:nvSpPr>
          <p:spPr>
            <a:xfrm>
              <a:off x="3164400" y="3997800"/>
              <a:ext cx="1874520" cy="3080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0" name="Puzzle1"/>
            <p:cNvSpPr/>
            <p:nvPr/>
          </p:nvSpPr>
          <p:spPr>
            <a:xfrm>
              <a:off x="2521080" y="2900520"/>
              <a:ext cx="3147840" cy="1836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11" name="Rectangle 8"/>
          <p:cNvSpPr/>
          <p:nvPr/>
        </p:nvSpPr>
        <p:spPr>
          <a:xfrm>
            <a:off x="357120" y="1241280"/>
            <a:ext cx="2603520" cy="176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Politiķi, kas pārstāv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sabiedrības interes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7056360" y="5545080"/>
            <a:ext cx="2772000" cy="17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Racionālas un efektīva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procedūras –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nepretrunīgi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likumam atbilstoši lēmu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252360" y="5460840"/>
            <a:ext cx="3024360" cy="176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Efektīva un skaidr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pārvalde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institucionālā sistēm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7024680" y="1241280"/>
            <a:ext cx="2771640" cy="176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Kompetenti un zinoši valst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lv-LV" sz="2000" spc="-1" strike="noStrike">
                <a:solidFill>
                  <a:srgbClr val="eeece1"/>
                </a:solidFill>
                <a:latin typeface="Arial Narrow"/>
              </a:rPr>
              <a:t>pārvaldes darbiniek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44720" y="4429080"/>
            <a:ext cx="752472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ahoma"/>
              </a:rPr>
              <a:t>Cilvēkresursi – nodarbināto skaits un darba samaks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ahoma"/>
              </a:rPr>
              <a:t>Valsts pārvaldes darba samaksas sistēmas sakārtošana - paveikta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dības līgumu, piemaksu, prēmiju, materiālās stimulēšanas atcelša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Grozījumi MK 20.12.2005. noteikumos Nr. 995 samazinot algu grupu augšējās robežas par </a:t>
            </a:r>
            <a:r>
              <a:rPr b="0" lang="lv-LV" sz="28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- 30.06.200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No 01.01.2010 - Grozījumi MK 20.12.2005. noteikumos Nr. 995 samazinot algu grupu augšējās robežas par </a:t>
            </a:r>
            <a:r>
              <a:rPr b="0" lang="lv-LV" sz="2800" spc="-1" strike="noStrike">
                <a:solidFill>
                  <a:srgbClr val="ff3300"/>
                </a:solidFill>
                <a:latin typeface="Tahoma"/>
              </a:rPr>
              <a:t>5%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Likumprojekts „Par vienotu valsts un pašvaldību institūciju amatpersonu un darbinieku atlīdzības sistēm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Object 2"/>
          <p:cNvGraphicFramePr/>
          <p:nvPr/>
        </p:nvGraphicFramePr>
        <p:xfrm>
          <a:off x="216000" y="-179280"/>
          <a:ext cx="9683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-179280"/>
                    <a:ext cx="9683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Text Box 3"/>
          <p:cNvSpPr/>
          <p:nvPr/>
        </p:nvSpPr>
        <p:spPr>
          <a:xfrm>
            <a:off x="1368360" y="5797440"/>
            <a:ext cx="825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tlīdzība - darba samaksa, valsts sociālās apdrošināšanas obligātās iemaksas, sociāla rakstura pabalsti un kompensācija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talgojums - amatalga, piemaksas un prēmijas (vairs netiek maksātas), uzņēmuma līgum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5688000" y="396720"/>
            <a:ext cx="4032360" cy="1150920"/>
          </a:xfrm>
          <a:prstGeom prst="wedgeRectCallout">
            <a:avLst>
              <a:gd name="adj1" fmla="val -50157"/>
              <a:gd name="adj2" fmla="val 7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Valsts budžeta izdevumu samazināju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atlīdzībai pret 2008.gadu – </a:t>
            </a:r>
            <a:r>
              <a:rPr b="1" lang="lv-LV" sz="1600" spc="-1" strike="noStrike">
                <a:solidFill>
                  <a:srgbClr val="ff0000"/>
                </a:solidFill>
                <a:latin typeface="Arial"/>
              </a:rPr>
              <a:t>296,7 miljoni latu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727280" y="1044720"/>
            <a:ext cx="1419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tlīdzīb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1800360" y="2124000"/>
            <a:ext cx="1419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talgoju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lsts pārvaldes cilvēkresursu vadība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Turpmākā rīcīb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84000" y="176364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lsts pārvaldē nodarbināto skaita samazināšana – ne vairāk kā 8% no iedzīvotāju skai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lsts civildienesta attīstība – disciplīna, politiskā  neitralitāte, kompeten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Pašvaldību darbinieku iekļaušanās civildienest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ienotās atalgojuma sistēmas ievieša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IT sistēmu attīstīš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ahoma"/>
              </a:rPr>
              <a:t>Turpmāk līdz 2013.gad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655280" y="133200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Pakalpojumu decentralizācija, atbalsta funkciju centralizā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lsts konkurences izslēgšana, kapitālsabiedrību vai kapitāldaļu atsavināšana, privatizācija vai likvidā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Valsts nekustamo īpašumu inventarizācija un pārdoša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Neatlaidīga cīņa ar politiski birokrātiskajiem rezervāti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Pārvaldes kultūras maiņa, vadības efektivitā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7224840" y="7008840"/>
            <a:ext cx="2352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E8308009-71F1-45F4-9902-5B506224257F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96360" y="6067440"/>
            <a:ext cx="242892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rīvības bulvāris 36,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īga, LV-1520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ālr.: 67082900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akss:  67280469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-pasts: vk@mk.gov.lv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ww.mk.gov.lv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Box 5"/>
          <p:cNvSpPr/>
          <p:nvPr/>
        </p:nvSpPr>
        <p:spPr>
          <a:xfrm>
            <a:off x="2879640" y="126036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ahoma"/>
              </a:rPr>
              <a:t>Paldies par uzmanību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8136000" y="7008840"/>
            <a:ext cx="1441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B06B1BC6-4A87-4707-8983-AAA6149D9EE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727280" y="684360"/>
            <a:ext cx="8066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Budžeta samazinājumi – decembris 2008, jūnijs 2009, novembris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Termiņi izslēdz izvērtēšanu un plānoša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lāni noveco pirms pieņemša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Krīzes iespējas un konkurence – kurš radīs labāko plān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Ja tiek dots laiks izvērtēšanai, tad tiek novilcināta lēmumu pieņemš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ektorālais feodālis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Datu un statistikas manipulāci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Nelojalitāte, savtīgums, situācijas neizprat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īņa par var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84360" y="0"/>
            <a:ext cx="8066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ahoma"/>
              </a:rPr>
              <a:t>Latvija 2009 - mācībstun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584000" y="-360"/>
            <a:ext cx="79930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ahoma"/>
              </a:rPr>
              <a:t>Demitoloģizācij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7993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ublisko izdevumu samazināšana nav strukturāla refor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trukturālās reformas ir brīnumains spēks, kas rada lai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Latvijā ir milzīga valsts pārvalde (lielākā Eiropā!), pārvaldes samazināšana var atrisināt 500+500 miljonu problēmu (reāli – 159 milj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roblēmu var atrisināt funkciju deleģēšana NVO (finansējumi jau ir nogriez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trukturālās reformas var veikt bez ieguldījumi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Samazinot finansējumu vairāk kā 50% apmērā uzlabosies pakalpojumu kvalitāte un pieejamīb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Chart 3" descr=""/>
          <p:cNvPicPr/>
          <p:nvPr/>
        </p:nvPicPr>
        <p:blipFill>
          <a:blip r:embed="rId1"/>
          <a:stretch/>
        </p:blipFill>
        <p:spPr>
          <a:xfrm>
            <a:off x="304920" y="407880"/>
            <a:ext cx="94676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1655640" y="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1440000" y="16560"/>
            <a:ext cx="806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0000"/>
                </a:solidFill>
                <a:latin typeface="Arial"/>
              </a:rPr>
              <a:t>Strukturālo reformu mērķis un virzien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3" name="AutoShape 4"/>
          <p:cNvSpPr/>
          <p:nvPr/>
        </p:nvSpPr>
        <p:spPr>
          <a:xfrm>
            <a:off x="2376360" y="755640"/>
            <a:ext cx="6840720" cy="1297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65e2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alsts konkurētspēj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āpināšan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4" name="AutoShape 5"/>
          <p:cNvSpPr/>
          <p:nvPr/>
        </p:nvSpPr>
        <p:spPr>
          <a:xfrm>
            <a:off x="2087640" y="2052720"/>
            <a:ext cx="2448000" cy="3168720"/>
          </a:xfrm>
          <a:prstGeom prst="upArrow">
            <a:avLst>
              <a:gd name="adj1" fmla="val 62389"/>
              <a:gd name="adj2" fmla="val 32348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Ekonomika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ārstrukturizācija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u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eksportspējīga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rodukcijas u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akalpojumu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iedāvāšanu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4608360" y="2052720"/>
            <a:ext cx="2448000" cy="3095640"/>
          </a:xfrm>
          <a:prstGeom prst="upArrow">
            <a:avLst>
              <a:gd name="adj1" fmla="val 60315"/>
              <a:gd name="adj2" fmla="val 31602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Sociālā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drošības tīkla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stratēģija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6" name="AutoShape 7"/>
          <p:cNvSpPr/>
          <p:nvPr/>
        </p:nvSpPr>
        <p:spPr>
          <a:xfrm>
            <a:off x="7128000" y="2052720"/>
            <a:ext cx="2447640" cy="3024000"/>
          </a:xfrm>
          <a:prstGeom prst="upArrow">
            <a:avLst>
              <a:gd name="adj1" fmla="val 62389"/>
              <a:gd name="adj2" fmla="val 30469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Valst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ārvalde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reforma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2224440" y="5724360"/>
            <a:ext cx="7652880" cy="703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abiedrība iegūst nevis no reformēšanas, bet no reformu rezultātā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augošas valsts konkurētspēj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Object 2"/>
          <p:cNvGraphicFramePr/>
          <p:nvPr/>
        </p:nvGraphicFramePr>
        <p:xfrm>
          <a:off x="2016000" y="324000"/>
          <a:ext cx="741708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324000"/>
                    <a:ext cx="74170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0" name="Picture 3" descr=""/>
          <p:cNvPicPr/>
          <p:nvPr/>
        </p:nvPicPr>
        <p:blipFill>
          <a:blip r:embed="rId3"/>
          <a:stretch/>
        </p:blipFill>
        <p:spPr>
          <a:xfrm>
            <a:off x="2232000" y="4932360"/>
            <a:ext cx="71755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68360" y="42847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ahoma"/>
              </a:rPr>
              <a:t>Galvenie veiktie pasākumi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Tahoma"/>
              </a:rPr>
              <a:t> un turpmākā rīcīb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84000" y="303120"/>
            <a:ext cx="799308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0000"/>
                </a:solidFill>
                <a:latin typeface="Arial"/>
              </a:rPr>
              <a:t>Strukturālās reformas valsts pārvald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518920" y="1116000"/>
            <a:ext cx="69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0000"/>
                </a:solidFill>
                <a:latin typeface="Tahoma"/>
              </a:rPr>
              <a:t>Valsts izdevumu pārstrukturēš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Budžeta ieņēmumu un izdevumu sabalansēš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fektīva līdzekļu plānoša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Budžeta izpildes uzraudzība un kont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0000"/>
                </a:solidFill>
                <a:latin typeface="Tahoma"/>
              </a:rPr>
              <a:t>Valsts pārvaldes iestāžu struktū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estāžu un struktūrvienību statuss, padotība, skaits, lielum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0000"/>
                </a:solidFill>
                <a:latin typeface="Tahoma"/>
              </a:rPr>
              <a:t>Valdības loma un funkci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Funkciju sadalījuma starp valsti un pašvaldībām pārskatīša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funkciju izvērtēšana, optimizācija, deleģēš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800000"/>
                </a:solidFill>
                <a:latin typeface="Tahoma"/>
              </a:rPr>
              <a:t>Cilvēkresursu vadība un civildien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Skaitliski mazs, kompakts, augsti profesionāls un politiski neitrāls civildien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216000" y="1836720"/>
            <a:ext cx="2448000" cy="3024360"/>
          </a:xfrm>
          <a:prstGeom prst="upArrow">
            <a:avLst>
              <a:gd name="adj1" fmla="val 62389"/>
              <a:gd name="adj2" fmla="val 30468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Valst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Pārvalde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reforma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37:39Z</dcterms:created>
  <dc:creator>Martins Krievins</dc:creator>
  <dc:description/>
  <dc:language>en-US</dc:language>
  <cp:lastModifiedBy>Ansis</cp:lastModifiedBy>
  <dcterms:modified xsi:type="dcterms:W3CDTF">2009-12-11T07:09:38Z</dcterms:modified>
  <cp:revision>16</cp:revision>
  <dc:subject/>
  <dc:title>Slide 1</dc:title>
</cp:coreProperties>
</file>