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5DDD-C1C4-4955-9B87-C97B4640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BCC-1703-41DD-979A-F40FD2FC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1E8-8F54-490C-89A1-A76F3FA1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1F7-B7E8-42D9-B74E-7AC167C0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2A0-ABE1-4737-9983-1BAEB7F2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C71-D485-4E45-AE16-6F4E55C9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0E0-DB6E-4EAE-B4CA-ABA36332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A62B-CF56-45A1-AB0B-5D578C68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3463-03F7-4737-A5B9-1742FA8B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155-3332-4B51-A085-2A305CEF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931-0025-4D49-8963-7FAE205C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B25-2B78-4CB7-A9D4-23DACD68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1DE2-0A5C-4E42-BAFD-35C1CB46B771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hyperlink" Target="http://info.worldbank.org/governance/wgi/sc_chart.asp" TargetMode="External"/><Relationship Id="rId5" Type="http://schemas.openxmlformats.org/officeDocument/2006/relationships/hyperlink" Target="http://info.worldbank.org/governance/wgi/sc_chart.asp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hyperlink" Target="http://ec.europa.eu/public_opinion/standard_en.htm" TargetMode="External"/><Relationship Id="rId5" Type="http://schemas.openxmlformats.org/officeDocument/2006/relationships/hyperlink" Target="http://ec.europa.eu/public_opinion/standard_en.htm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Reformas Latvijā – bezgalīgais stāsts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.Iveta Reinhol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vijas Universi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s būtu jād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imbolu loma (dienesta auto, biznesa klases aviobiļetes, “vienotā atalgojuma sistēma”  utm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eguldījums nodokļu pārdales mehānisma izskaidrošan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incips – “vispirms darbs, tad samaks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aicināj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Globaliz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emogrāfiskās pārmaiņas, migrācija un mobili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ompleksas problēmas”, kurām nepieciešamās starpsektorāls un ātrs risināj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abiedrības pieaugošās prasības pēc publiskās pārvaldes kvalitā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sts spējas ieviest rīcībpolitik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1413000"/>
          <a:ext cx="8964720" cy="468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13000"/>
                    <a:ext cx="89647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17840" y="6041880"/>
            <a:ext cx="540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vots: The Worldwide Governance Indicator projec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lv-LV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info.worldbank.org/governance/wgi/sc_chart.asp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 (aplūkots 07.12.2009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uzticēšanās valdībai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1413000"/>
          <a:ext cx="7993080" cy="403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413000"/>
                    <a:ext cx="799308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220040" y="6113520"/>
            <a:ext cx="523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vots: Recent Standard Eurobarome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lv-LV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ec.europa.eu/public_opinion/standard_en.htm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 (aplūkots 07.12.2009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ošais publiskās pārvaldes mode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ēts un sadrumsta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Ārkārtīga sadrumstalotība nozaru griezumā – ir vairāk kā 10 pārval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sts pārvalde un pašvaldības nodalītas, kaut arī Valsts pārvaldes iekārtas likums paredz vienotī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rs cīnās pret reso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ošā situ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ācija kā “lamu vār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kā pārvalde kā “ļaunuma sak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kturālās reformas kā “mantr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kās pārvaldes identitātes problē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ālās izdzīvošanas stratēģ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umjais fināl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kas nemainās vai arī izmaiņas ir niecī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stāžu – daudz un nav saprotams, ko tās d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biedrības uzticēšanās nepiea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isa “mēs –sabiedrība” un “viņi – augšas” palielin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rodukts vārdā “Reform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eformas: ārkārtīgi liels pieprasījums, bet ...dīvains piedāvāj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ārdošanā: īstermiņa struktūru reorganizācija, nevis ilgtermiņa uzvedības ma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rp gribētu dot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ērķis: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za, profesionāla, un uz iedzīvotājiem orientēta valsts pārvalde, kas strādā visas sabiedrības lab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vots: Pasākumu plāns valsts pārvaldes sistēmas un civildienesta optimizēšana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ērķa sasniegšanai ir jāatspoguļojas arī valsts spējā ieviest rīcībpolitikas, ne tikai iztērētajā naudā un nodarbināto skait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8:06:19Z</dcterms:created>
  <dc:creator>IVETA</dc:creator>
  <dc:description/>
  <dc:language>en-US</dc:language>
  <cp:lastModifiedBy>raimonds.kipurs</cp:lastModifiedBy>
  <dcterms:modified xsi:type="dcterms:W3CDTF">2009-12-10T06:50:59Z</dcterms:modified>
  <cp:revision>35</cp:revision>
  <dc:subject/>
  <dc:title>Slide 1</dc:title>
</cp:coreProperties>
</file>