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0816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4660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126972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480816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834660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0816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34660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126972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480816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834660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0816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34660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126972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80816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34660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0816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4660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26972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80816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834660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0816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4660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126972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480816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834660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80816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4660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126972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480816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834660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0816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4660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26972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80816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34660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816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4660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26972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80816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34660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0816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4660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26972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80816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34660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0816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4660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126972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80816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834660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0816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4660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26972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80816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34660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816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4660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126972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80816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834660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Apple Braille"/>
                <a:ea typeface="Lucida Grande"/>
              </a:rPr>
              <a:t>Vaučeri kā optimizācijas rīk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pple Braille"/>
                <a:ea typeface="Lucida Grande"/>
              </a:rPr>
              <a:t>fakti, sakarības, iespējošana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"/>
          <p:cNvSpPr/>
          <p:nvPr/>
        </p:nvSpPr>
        <p:spPr>
          <a:xfrm>
            <a:off x="8839080" y="9101880"/>
            <a:ext cx="407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  <a:ea typeface="Lucida Grande"/>
              </a:rPr>
              <a:t>Roberts Ķīlis, 2009.gada 11.decembri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Apple Braille"/>
                <a:ea typeface="Lucida Grande"/>
              </a:rPr>
              <a:t>Skolas vaučeri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861840" indent="-5540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Apple Bra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pple Braille"/>
                <a:ea typeface="Lucida Grande"/>
              </a:rPr>
              <a:t>Sertifikāts, ko izsniedz valdība un tiek segta no nodokļu naudas, ar kura palīdzību vecāki norēķinās par savu bērnu izglītību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61840" indent="-5540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Apple Bra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pple Braille"/>
                <a:ea typeface="Lucida Grande"/>
              </a:rPr>
              <a:t>pieļauj brīvu izglītības iestādes izvēli - publisks finansējums, individuāla izvēl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61840" indent="-5540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Apple Bra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pple Braille"/>
                <a:ea typeface="Lucida Grande"/>
              </a:rPr>
              <a:t>Skolas sacenšas par vaučeriem, konkurencē vājas iestādes pazū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06440" y="253800"/>
            <a:ext cx="12547440" cy="275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pple Braille"/>
                <a:ea typeface="Lucida Grande"/>
              </a:rPr>
              <a:t>Vairāk kā 50 gadu izmantošanas vēsturi 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269720" y="2400120"/>
            <a:ext cx="1046484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808560" indent="-519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Apple Bra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pple Braille"/>
                <a:ea typeface="Lucida Grande"/>
              </a:rPr>
              <a:t>Frīdmens un Hajeks uzsver kā veiksmīgāko optimizācijas rīku.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08560" indent="-519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Apple Bra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pple Braille"/>
                <a:ea typeface="Lucida Grande"/>
              </a:rPr>
              <a:t>Tiek uzsvērta izvēles brīvība, efektivitāte, vienlīdzība tiesībās, sociālā kohēzija.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08560" indent="-519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Apple Bra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pple Braille"/>
                <a:ea typeface="Lucida Grande"/>
              </a:rPr>
              <a:t>Lielāka vecāku iesaiste,  daudzveidīgāks un bērnu attīstībai pielāgotāks piedāvājums, iespējas uzturēt dažāda lieluma skolas.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08560" indent="-519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Apple Bra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pple Braille"/>
                <a:ea typeface="Lucida Grande"/>
              </a:rPr>
              <a:t>ASV, Čīle, Nīderlande, Zviedrija, Dānija, Jaunzēlande un cita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Apple Braille"/>
                <a:ea typeface="Lucida Grande"/>
              </a:rPr>
              <a:t>Zviedrijā no 1992.gada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826560" indent="-531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Apple Bra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pple Braille"/>
                <a:ea typeface="Lucida Grande"/>
              </a:rPr>
              <a:t>visi līmeņi līdz augstskolai sākot no bērnudārz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26560" indent="-531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Apple Bra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pple Braille"/>
                <a:ea typeface="Lucida Grande"/>
              </a:rPr>
              <a:t>Diskusijas jau no 70to gadu beigām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26560" indent="-531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Apple Bra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pple Braille"/>
                <a:ea typeface="Lucida Grande"/>
              </a:rPr>
              <a:t>Pašlaik  15-20% bērnu ir iesaistīti ‘brīvajās skolās’ ar 1% pieaugumu katru gadu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26560" indent="-531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Apple Bra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pple Braille"/>
                <a:ea typeface="Lucida Grande"/>
              </a:rPr>
              <a:t>Lielāks  privāto un ‘dažādo’ skolu skaita pieaugums.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Apple Braille"/>
                <a:ea typeface="Lucida Grande"/>
              </a:rPr>
              <a:t>Kunskapskolan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835200" indent="-5367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Apple Bra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pple Braille"/>
                <a:ea typeface="Lucida Grande"/>
              </a:rPr>
              <a:t>30 izglītības iestād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35200" indent="-5367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Apple Bra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pple Braille"/>
                <a:ea typeface="Lucida Grande"/>
              </a:rPr>
              <a:t>Interaktīva un personalizēta apmācīb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35200" indent="-5367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Apple Bra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pple Braille"/>
                <a:ea typeface="Lucida Grande"/>
              </a:rPr>
              <a:t>Lielāks stundu skaits uz skolēnu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35200" indent="-5367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Apple Bra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pple Braille"/>
                <a:ea typeface="Lucida Grande"/>
              </a:rPr>
              <a:t>Labāks aprīkojums, lielāka bērnu aprūpe PAR TO PAŠU VAUČERA VĒRTĪBU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35200" indent="-5367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Apple Bra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pple Braille"/>
                <a:ea typeface="Lucida Grande"/>
              </a:rPr>
              <a:t>Skolas funkcionē kā uzņēmumi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426960" y="909720"/>
            <a:ext cx="12492000" cy="8318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853200" indent="-548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Apple Bra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pple Braille"/>
                <a:ea typeface="Lucida Grande"/>
              </a:rPr>
              <a:t>Learn&amp;Save, PDA, bezdarbnieku pārkvalifikācijas kursu vaučeru shēmas (tai skaitā Krievijā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53200" indent="-548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Apple Bra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pple Braille"/>
                <a:ea typeface="Lucida Grande"/>
              </a:rPr>
              <a:t>Politisko partiju finansēšanas vaučeris (23.); </a:t>
            </a:r>
            <a:r>
              <a:rPr b="0" lang="en-US" sz="4200" spc="-1" strike="noStrike" u="sng">
                <a:solidFill>
                  <a:srgbClr val="009999"/>
                </a:solidFill>
                <a:uFillTx/>
                <a:latin typeface="Apple Braille"/>
                <a:ea typeface="Lucida Grande"/>
              </a:rPr>
              <a:t>http://www.coe.int/t/dgap/democracy/Activities/Key-Texts/02_Green_Paper/Wish_list_en.asp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53200" indent="-548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Apple Bra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pple Braille"/>
                <a:ea typeface="Lucida Grande"/>
              </a:rPr>
              <a:t>Nodokļu ‘nosūtīšana’ noteiktiem mērķiem.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Apple Braille"/>
                <a:ea typeface="Lucida Grande"/>
              </a:rPr>
              <a:t>Citas versija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Apple Bra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pple Braille"/>
                <a:ea typeface="Lucida Grande"/>
              </a:rPr>
              <a:t>¾ daļas no sociālā nodokļa izmantošanas ir saistīta ar konkrētās personas ienākumu sadali mūža garumā, amortizējot viņu pret dažādu dzīves stadiju izaicinājumiem.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666880" indent="-57132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Apple Brail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ple Braille"/>
                <a:ea typeface="Lucida Grande"/>
              </a:rPr>
              <a:t>Zviedrijas Finanšu Ministrijas pētījums 2006.ga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Apple Bra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pple Braille"/>
                <a:ea typeface="Lucida Grande"/>
              </a:rPr>
              <a:t>Paldies par uzmanību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rcRect l="2968" t="91671" r="97032" b="8335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-178200" y="254160"/>
            <a:ext cx="13005000" cy="86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pple Braille"/>
                <a:ea typeface="Lucida Grande"/>
              </a:rPr>
              <a:t>Mēreni augstas prasības nākotnes skolai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474840" y="1568520"/>
            <a:ext cx="11861640" cy="72514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52280" y="254160"/>
            <a:ext cx="12458880" cy="123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pple Braille"/>
                <a:ea typeface="Lucida Grande"/>
              </a:rPr>
              <a:t>Ļoti zems uzticības līmenis pārstāvjiem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08B2-1067-471D-B902-EEBF411BE54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830160" y="1903320"/>
            <a:ext cx="9956880" cy="698508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8160" y="126720"/>
            <a:ext cx="12293640" cy="1422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pple Braille"/>
                <a:ea typeface="Lucida Grande"/>
              </a:rPr>
              <a:t>Lēna atgūšanās, lielāks parāda un sociālais slogs, iespējama publiski finansēto pakalpojumu pasliktināšanās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9332-E18D-4E06-9D92-D901D39DAD2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768240" y="1949400"/>
            <a:ext cx="10757160" cy="657864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12440" y="0"/>
            <a:ext cx="12293640" cy="1193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pple Braille"/>
                <a:ea typeface="Lucida Grande"/>
              </a:rPr>
              <a:t>Pieaugoša dzīves iespēju nevienlīdzība zemu sociālo transferu kontekstā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rcRect l="13163" t="101601" r="86841" b="0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01440" y="190440"/>
            <a:ext cx="11188440" cy="889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pple Braille"/>
                <a:ea typeface="Lucida Grande"/>
              </a:rPr>
              <a:t>Izdzīvošanas stratēģijas - pārsvarā individuāla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-198360" y="673200"/>
            <a:ext cx="13784040" cy="7165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853200" indent="-548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Apple Bra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pple Braille"/>
                <a:ea typeface="Lucida Grande"/>
              </a:rPr>
              <a:t>Valsts un pašvaldības institūcijām neuztica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53200" indent="-548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Apple Bra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pple Braille"/>
                <a:ea typeface="Lucida Grande"/>
              </a:rPr>
              <a:t>Kolektīvai rīcībai netic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53200" indent="-548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Apple Bra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pple Braille"/>
                <a:ea typeface="Lucida Grande"/>
              </a:rPr>
              <a:t>Vāji pašorganizējas, ļoti paļaujas uz sevi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53200" indent="-548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Apple Bra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pple Braille"/>
                <a:ea typeface="Lucida Grande"/>
              </a:rPr>
              <a:t>Pieaug sociālekonomiskā- tātad dzīves iespēju - nevienlīdzīb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53200" indent="-548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Apple Bra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pple Braille"/>
                <a:ea typeface="Lucida Grande"/>
              </a:rPr>
              <a:t>Augstas prasības skolai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Apple Braille"/>
                <a:ea typeface="Lucida Grande"/>
              </a:rPr>
              <a:t>Optimizācija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3004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Apple Bra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pple Braille"/>
                <a:ea typeface="Lucida Grande"/>
              </a:rPr>
              <a:t>Tiesības izlemt pašiem/ām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