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1225440"/>
            <a:ext cx="6475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2590920"/>
            <a:ext cx="64753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4802400"/>
            <a:ext cx="64753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1225440"/>
            <a:ext cx="6475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2590920"/>
            <a:ext cx="315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7960" y="2590920"/>
            <a:ext cx="315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4802400"/>
            <a:ext cx="315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7960" y="4802400"/>
            <a:ext cx="315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1225440"/>
            <a:ext cx="6475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2590920"/>
            <a:ext cx="208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9360" y="2590920"/>
            <a:ext cx="208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520" y="2590920"/>
            <a:ext cx="208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4802400"/>
            <a:ext cx="208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9360" y="4802400"/>
            <a:ext cx="208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520" y="4802400"/>
            <a:ext cx="208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1225440"/>
            <a:ext cx="6475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2590920"/>
            <a:ext cx="64753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1225440"/>
            <a:ext cx="6475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2590920"/>
            <a:ext cx="64753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1225440"/>
            <a:ext cx="6475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2590920"/>
            <a:ext cx="3159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7960" y="2590920"/>
            <a:ext cx="3159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1225440"/>
            <a:ext cx="6475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1225440"/>
            <a:ext cx="64753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1225440"/>
            <a:ext cx="6475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2590920"/>
            <a:ext cx="315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7960" y="2590920"/>
            <a:ext cx="3159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4802400"/>
            <a:ext cx="315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225440"/>
            <a:ext cx="6475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2590920"/>
            <a:ext cx="3159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7960" y="2590920"/>
            <a:ext cx="315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7960" y="4802400"/>
            <a:ext cx="315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1225440"/>
            <a:ext cx="6475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2590920"/>
            <a:ext cx="315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7960" y="2590920"/>
            <a:ext cx="315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4802400"/>
            <a:ext cx="64753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1225440"/>
            <a:ext cx="6475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2590920"/>
            <a:ext cx="64753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657240" y="6248160"/>
            <a:ext cx="28177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48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A31026-6399-4072-B574-D677CAA0B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00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2421000"/>
            <a:ext cx="6705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45720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144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00200" y="1225440"/>
            <a:ext cx="647712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800" spc="-1" strike="noStrike">
                <a:solidFill>
                  <a:srgbClr val="0000ff"/>
                </a:solidFill>
                <a:latin typeface="Times New Roman"/>
              </a:rPr>
              <a:t>Jarno La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800" spc="-1" strike="noStrike">
                <a:solidFill>
                  <a:srgbClr val="0000ff"/>
                </a:solidFill>
                <a:latin typeface="Times New Roman"/>
              </a:rPr>
              <a:t>Former Advisor to Minister of Interior (S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0000" y="1440000"/>
            <a:ext cx="6840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0000ff"/>
                </a:solidFill>
                <a:latin typeface="Times New Roman"/>
              </a:rPr>
              <a:t>REFORMS IN ESTONIAN INTERNAL SECURITY A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0000" y="360360"/>
            <a:ext cx="6656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68F5AB-AE38-413E-A0A6-17F3AF607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0000" y="1260360"/>
            <a:ext cx="702144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on national level Police Board, Border Guard Board, Citizenship and Migration Bo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national units: the Central Criminal Police, the Central Law Enforcement, Border Guard Aviation Grou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regional departments: 4 in CMB, 4 Prefectures in Police, 4 in B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on national level: 1 Board with 4 main departments, national units integra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on regional level 4 Prefec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144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0000" y="360360"/>
            <a:ext cx="6656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301F68-EF57-40CC-83A5-211A8CEF1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0000" y="1260360"/>
            <a:ext cx="702144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-1440"/>
            <a:ext cx="914400" cy="6859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40000" y="1260360"/>
            <a:ext cx="7380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400" spc="-1" strike="noStrike">
                <a:solidFill>
                  <a:srgbClr val="0000ff"/>
                </a:solidFill>
                <a:latin typeface="Times New Roman"/>
              </a:rPr>
              <a:t>- all functions of three agencies remained (guarding the external border of the EU, citizenship and documentation of residents, internal security and public order, criminal investigation and prev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ff"/>
                </a:solidFill>
                <a:latin typeface="Times New Roman"/>
              </a:rPr>
              <a:t>- Ca 7000 employees, 6000 delivering main services and 1000 in administr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ff"/>
                </a:solidFill>
                <a:latin typeface="Times New Roman"/>
              </a:rPr>
              <a:t>- Budget ca 2 billion Estonian kroons, ca 70%  pers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ff"/>
                </a:solidFill>
                <a:latin typeface="Times New Roman"/>
              </a:rPr>
              <a:t>- All officers and civil servants delivering main services remained in service on same term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ff"/>
                </a:solidFill>
                <a:latin typeface="Times New Roman"/>
              </a:rPr>
              <a:t>- back-office and reorganisation costs...?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248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65DEEE-1C45-4A25-B728-A2FC2251F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2421000"/>
            <a:ext cx="6477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ANK YOU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144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248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7A0362-DCF9-4BD4-8FEE-AFEEDA809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144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2060640"/>
            <a:ext cx="68403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720720"/>
            <a:ext cx="64771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erger of Estonian Police Board, Borderguard Board and Citizenship and Migration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0000" y="3060720"/>
            <a:ext cx="1879560" cy="201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959280" y="3060720"/>
            <a:ext cx="1979640" cy="216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480000" y="3060720"/>
            <a:ext cx="20145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19280" y="539640"/>
            <a:ext cx="6477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olog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476488-2254-4340-BE73-E0E3FCF0E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5960" y="0"/>
            <a:ext cx="9144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19280" y="1619280"/>
            <a:ext cx="684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Governemnt coalition programme (April 2007): avoid needless dublation of functions in state administratio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MOI Working Group proposal (May 2007): reorganise police, borderguard and citizenship and migration boards and form single agency in 201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Government Action Plan 2007-2011: formation of Police and Borderguard Boar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19280" y="1197000"/>
            <a:ext cx="6477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7ADEDF-F1D8-49E1-9325-07EC3460A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0360" y="0"/>
            <a:ext cx="5634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19280" y="1916280"/>
            <a:ext cx="68403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816520" y="1879560"/>
            <a:ext cx="3003480" cy="2441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22520" y="539640"/>
            <a:ext cx="64767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0000ff"/>
                </a:solidFill>
                <a:latin typeface="Times New Roman"/>
              </a:rPr>
              <a:t>Changes in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0000" y="1619280"/>
            <a:ext cx="431928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buClr>
                <a:srgbClr val="003567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800" spc="-1" strike="noStrike">
                <a:solidFill>
                  <a:srgbClr val="0000ff"/>
                </a:solidFill>
                <a:latin typeface="Times New Roman"/>
              </a:rPr>
              <a:t>Enlargement of Schenge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567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2800" spc="-1" strike="noStrike">
                <a:solidFill>
                  <a:srgbClr val="0000ff"/>
                </a:solidFill>
                <a:latin typeface="Times New Roman"/>
              </a:rPr>
              <a:t>Classical borderguard functions replaced by increasing polic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567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2800" spc="-1" strike="noStrike">
                <a:solidFill>
                  <a:srgbClr val="0000ff"/>
                </a:solidFill>
                <a:latin typeface="Times New Roman"/>
              </a:rPr>
              <a:t>Competition at labour market for competent and capable staff (demograph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567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2800" spc="-1" strike="noStrike">
                <a:solidFill>
                  <a:srgbClr val="0000ff"/>
                </a:solidFill>
                <a:latin typeface="Times New Roman"/>
              </a:rPr>
              <a:t>Increasing importance of information manag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19280" y="360360"/>
            <a:ext cx="6477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centive of chan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F7F8B8-DBFA-4B8B-8AFB-F5C1B9899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144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0200" y="1271520"/>
            <a:ext cx="647712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buClr>
                <a:srgbClr val="003567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ff"/>
                </a:solidFill>
                <a:latin typeface="Times New Roman"/>
              </a:rPr>
              <a:t>Fragmented administ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567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ff"/>
                </a:solidFill>
                <a:latin typeface="Times New Roman"/>
              </a:rPr>
              <a:t>Dispersed 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567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ff"/>
                </a:solidFill>
                <a:latin typeface="Times New Roman"/>
              </a:rPr>
              <a:t>Rigid allocation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567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ff"/>
                </a:solidFill>
                <a:latin typeface="Times New Roman"/>
              </a:rPr>
              <a:t>Procurement probl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567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ff"/>
                </a:solidFill>
                <a:latin typeface="Times New Roman"/>
              </a:rPr>
              <a:t>Log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567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ff"/>
                </a:solidFill>
                <a:latin typeface="Times New Roman"/>
              </a:rPr>
              <a:t>High cost of suppor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19280" y="360360"/>
            <a:ext cx="691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xample: Schengen compensation mech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D977F4-3086-4DC0-81C2-0595727E4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144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1800360"/>
            <a:ext cx="639432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trol of external borders of the EU – B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isa policy and Visa Information System (VIS) – M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pervision authority of migration – C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lice cooperation –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chengen Information System (SIS) -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t-EE" sz="2400" spc="-1" strike="noStrike">
                <a:solidFill>
                  <a:srgbClr val="0000ff"/>
                </a:solidFill>
                <a:latin typeface="Times New Roman"/>
              </a:rPr>
              <a:t>In 2010 all functions in one agency (P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19280" y="360360"/>
            <a:ext cx="6477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A0A5D2-A809-411F-B4AC-F37F1A880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-1440"/>
            <a:ext cx="914400" cy="685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619280" y="1440000"/>
            <a:ext cx="68403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ptimal use of human resources enables to extra resources to provide better, quicker services on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igher level of quali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oint us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f technical equipment and other resources enables lower level of spe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erged agency is able to spen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wo times less on “hardware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- these resources could be allocated to “software” - human resources and know-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etter organised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informatio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shorter command-lines as compensation mechan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19280" y="539640"/>
            <a:ext cx="6477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ojec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F2504D-0D65-46A6-B3E3-9F4C43D61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14400" cy="6859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40000" y="1150920"/>
            <a:ext cx="6476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buClr>
                <a:srgbClr val="003567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2600" spc="-1" strike="noStrike">
                <a:solidFill>
                  <a:srgbClr val="0000ff"/>
                </a:solidFill>
                <a:latin typeface="Times New Roman"/>
              </a:rPr>
              <a:t>Preparations started already before Schengen enlargement – changes in border guar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567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t-EE" sz="2600" spc="-1" strike="noStrike">
                <a:solidFill>
                  <a:srgbClr val="0000ff"/>
                </a:solidFill>
                <a:latin typeface="Times New Roman"/>
              </a:rPr>
              <a:t>2007/2008/2009 – project team (services, enforcement, back off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567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2600" spc="-1" strike="noStrike">
                <a:solidFill>
                  <a:srgbClr val="0000ff"/>
                </a:solidFill>
                <a:latin typeface="Times New Roman"/>
              </a:rPr>
              <a:t>Proposals for structure, career-model,  communication, communication, communication..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567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2600" spc="-1" strike="noStrike">
                <a:solidFill>
                  <a:srgbClr val="0000ff"/>
                </a:solidFill>
                <a:latin typeface="Times New Roman"/>
              </a:rPr>
              <a:t>Legislation adopted in May 200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567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2600" spc="-1" strike="noStrike">
                <a:solidFill>
                  <a:srgbClr val="0000ff"/>
                </a:solidFill>
                <a:latin typeface="Times New Roman"/>
              </a:rPr>
              <a:t>Leadership appointed in Summer 200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567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t-EE" sz="2600" spc="-1" strike="noStrike">
                <a:solidFill>
                  <a:srgbClr val="0000ff"/>
                </a:solidFill>
                <a:latin typeface="Times New Roman"/>
              </a:rPr>
              <a:t>Police and Borderguard Board in force January 1, 2010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19280" y="720720"/>
            <a:ext cx="64771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B666E2-A290-415F-9B7F-580E6D5B5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1619280"/>
            <a:ext cx="64771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mmunication risks – lack of support from inside (leaders, offic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mmunication risks – lack of support from general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litical risks – lack of support in parliament, transforming administrative issue into pol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ultural risks – conflict of different organisational cultures, traditions, service rule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3567"/>
              </a:buClr>
              <a:buFont typeface="Wingdings" charset="2"/>
              <a:buChar char="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chnical risks –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144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08:23:31Z</dcterms:created>
  <dc:creator>Maret</dc:creator>
  <dc:description/>
  <dc:language>en-US</dc:language>
  <cp:lastModifiedBy>raimonds.kipurs</cp:lastModifiedBy>
  <cp:lastPrinted>2007-01-11T09:50:56Z</cp:lastPrinted>
  <dcterms:modified xsi:type="dcterms:W3CDTF">2009-12-09T11:48:11Z</dcterms:modified>
  <cp:revision>48</cp:revision>
  <dc:subject/>
  <dc:title>No Slide Title</dc:title>
</cp:coreProperties>
</file>